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6AD-15A4-45D0-9AB1-1B73ADDE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8BF-F516-4E9E-BCFA-EE0EA1C3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2E1-6446-4885-9093-07A0284B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74A-0B04-4B5D-BC2C-CC909A08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641-2A38-4506-BA4A-D804B3C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80E-8103-4070-B24A-E0D3FE1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B15-2FC6-4CCE-B9A2-E5DA443D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D5B-193A-401E-9493-8CAEFAB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5A4-685F-4AA3-B5E1-94C76715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406-6AF8-484D-8F51-40E49E6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CFD-F64D-4E16-8A9B-E42AC66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A8C-F9F2-4028-B9C7-9EA38B95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E57-A24E-4985-8D85-CD3E45492F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250920" y="692280"/>
            <a:ext cx="3168720" cy="534348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2494080" y="6480"/>
            <a:ext cx="6168960" cy="84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366720" y="1844280"/>
            <a:ext cx="577692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r" rtl="1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      </a:t>
            </a:r>
            <a:r>
              <a:rPr b="1" lang="ar-EG" sz="1600" spc="-1" strike="noStrike">
                <a:solidFill>
                  <a:srgbClr val="fbebab"/>
                </a:solidFill>
                <a:latin typeface="Tahoma"/>
                <a:cs typeface="Times New Roman"/>
              </a:rPr>
              <a:t>هي عبارة عن فتحات مصممة من الطوب أو الخرسانة العاديـ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أو المسلحة، والهدف من هذه الفتحات تمكين معدات الصيانـ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أو عمال الصيانة من العمل بهدف إزالة الرواسب في خطوط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شبكات الصرف  الصحي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" spc="-1" strike="noStrike">
                <a:solidFill>
                  <a:srgbClr val="fbebab"/>
                </a:solidFill>
                <a:latin typeface="Tahoma"/>
                <a:ea typeface="Times New Roman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419640" y="4653000"/>
            <a:ext cx="48463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1/ 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تغيّر قطر الانابيب المستخدمة في شبكة الصرف الصحي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2/ 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تغيّر اتجاه الانابيب المستخدمة في شبكة الصرف الصحي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3/ 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تغيّر ميل الانابيب المستخدمة في شبكة الصرف الصحي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4/ 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اتصال خطوط التصريف ببعضها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5/ 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مسافات معينة حسب الحاجة</a:t>
            </a:r>
            <a:r>
              <a:rPr b="1" lang="ar-EG" sz="1900" spc="-1" strike="noStrike">
                <a:solidFill>
                  <a:srgbClr val="f0f0f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Bent Arrow 11"/>
          <p:cNvSpPr/>
          <p:nvPr/>
        </p:nvSpPr>
        <p:spPr>
          <a:xfrm flipH="1" rot="16200000">
            <a:off x="5817960" y="597600"/>
            <a:ext cx="934920" cy="838440"/>
          </a:xfrm>
          <a:custGeom>
            <a:avLst/>
            <a:gdLst>
              <a:gd name="textAreaLeft" fmla="*/ -360 w 934920"/>
              <a:gd name="textAreaRight" fmla="*/ 934920 w 9349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143000" h="838200">
                <a:moveTo>
                  <a:pt x="0" y="838200"/>
                </a:moveTo>
                <a:lnTo>
                  <a:pt x="0" y="471488"/>
                </a:lnTo>
                <a:cubicBezTo>
                  <a:pt x="0" y="268958"/>
                  <a:pt x="164183" y="104775"/>
                  <a:pt x="366713" y="104775"/>
                </a:cubicBezTo>
                <a:cubicBezTo>
                  <a:pt x="366713" y="104775"/>
                  <a:pt x="366713" y="104775"/>
                  <a:pt x="366714" y="104775"/>
                </a:cubicBezTo>
                <a:lnTo>
                  <a:pt x="933450" y="104775"/>
                </a:lnTo>
                <a:lnTo>
                  <a:pt x="933450" y="0"/>
                </a:lnTo>
                <a:lnTo>
                  <a:pt x="1143000" y="209550"/>
                </a:lnTo>
                <a:lnTo>
                  <a:pt x="933450" y="419100"/>
                </a:lnTo>
                <a:lnTo>
                  <a:pt x="933450" y="314325"/>
                </a:lnTo>
                <a:lnTo>
                  <a:pt x="366713" y="314325"/>
                </a:lnTo>
                <a:cubicBezTo>
                  <a:pt x="279914" y="314325"/>
                  <a:pt x="209550" y="384689"/>
                  <a:pt x="209550" y="471488"/>
                </a:cubicBezTo>
                <a:lnTo>
                  <a:pt x="209550" y="838200"/>
                </a:lnTo>
                <a:lnTo>
                  <a:pt x="0" y="8382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Rectangle 7" descr=""/>
          <p:cNvPicPr/>
          <p:nvPr/>
        </p:nvPicPr>
        <p:blipFill>
          <a:blip r:embed="rId3"/>
          <a:stretch/>
        </p:blipFill>
        <p:spPr>
          <a:xfrm>
            <a:off x="5937120" y="3541680"/>
            <a:ext cx="1981440" cy="871560"/>
          </a:xfrm>
          <a:prstGeom prst="rect">
            <a:avLst/>
          </a:prstGeom>
          <a:ln w="0">
            <a:noFill/>
          </a:ln>
        </p:spPr>
      </p:pic>
      <p:sp>
        <p:nvSpPr>
          <p:cNvPr id="47" name="Curved Left Arrow 9"/>
          <p:cNvSpPr/>
          <p:nvPr/>
        </p:nvSpPr>
        <p:spPr>
          <a:xfrm>
            <a:off x="8244000" y="3500280"/>
            <a:ext cx="731880" cy="990720"/>
          </a:xfrm>
          <a:custGeom>
            <a:avLst/>
            <a:gdLst>
              <a:gd name="textAreaLeft" fmla="*/ 97920 w 731880"/>
              <a:gd name="textAreaRight" fmla="*/ 633960 w 731880"/>
              <a:gd name="textAreaTop" fmla="*/ 178920 h 990720"/>
              <a:gd name="textAreaBottom" fmla="*/ 7203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08" stAng="-5400000" swAng="5400000"/>
                <a:lnTo>
                  <a:pt x="21600" y="11797"/>
                </a:lnTo>
                <a:arcTo wR="21600" hR="7808" stAng="0" swAng="3267753"/>
                <a:lnTo>
                  <a:pt x="5400" y="21352"/>
                </a:lnTo>
                <a:lnTo>
                  <a:pt x="0" y="17611"/>
                </a:lnTo>
                <a:lnTo>
                  <a:pt x="5400" y="13373"/>
                </a:lnTo>
                <a:lnTo>
                  <a:pt x="5400" y="15368"/>
                </a:lnTo>
                <a:arcTo wR="21600" hR="7808" stAng="3267753" swAng="-2940419"/>
                <a:lnTo>
                  <a:pt x="20883" y="9803"/>
                </a:lnTo>
                <a:arcTo wR="21600" hR="7808" stAng="-327334" swAng="-5072666"/>
                <a:close/>
              </a:path>
              <a:path fill="darkenLess" w="21600" h="21600">
                <a:moveTo>
                  <a:pt x="0" y="0"/>
                </a:moveTo>
                <a:arcTo wR="21600" hR="7808" stAng="-5400000" swAng="5400000"/>
                <a:lnTo>
                  <a:pt x="21600" y="11797"/>
                </a:lnTo>
                <a:arcTo wR="21600" hR="7808" stAng="0" swAng="-327334"/>
                <a:lnTo>
                  <a:pt x="20883" y="9803"/>
                </a:lnTo>
                <a:arcTo wR="21600" hR="7808" stAng="-327334" swAng="-5072666"/>
                <a:close/>
              </a:path>
            </a:pathLst>
          </a:custGeom>
          <a:solidFill>
            <a:srgbClr val="009999"/>
          </a:solidFill>
          <a:ln w="1260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8748720" y="1916280"/>
            <a:ext cx="216000" cy="14436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7640" y="304920"/>
            <a:ext cx="20574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100" spc="-1" strike="noStrike">
                <a:solidFill>
                  <a:srgbClr val="e75c01"/>
                </a:solidFill>
                <a:latin typeface="Estrangelo Edessa"/>
                <a:ea typeface="Estrangelo Edessa"/>
              </a:rPr>
              <a:t> 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172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e5ffff"/>
                </a:solidFill>
                <a:latin typeface="Tahoma"/>
                <a:cs typeface="Times New Roman"/>
              </a:rPr>
              <a:t>تأخذ المطابق ثلاثة اشكال في أغلب مدن العالم وهي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1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/ مربع (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1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*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1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) مت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2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/ مستطيل (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0.8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 * 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1.2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) مت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3</a:t>
            </a:r>
            <a:r>
              <a:rPr b="1" lang="ar-EG" sz="2800" spc="-1" strike="noStrike">
                <a:solidFill>
                  <a:srgbClr val="00b050"/>
                </a:solidFill>
                <a:latin typeface="Tahoma"/>
                <a:ea typeface="Times New Roman"/>
              </a:rPr>
              <a:t>/ دائرية الشكل بقطر متر واح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2.jpg"/>
          <p:cNvPicPr/>
          <p:nvPr/>
        </p:nvPicPr>
        <p:blipFill>
          <a:blip r:embed="rId1"/>
          <a:stretch/>
        </p:blipFill>
        <p:spPr>
          <a:xfrm>
            <a:off x="611280" y="4508640"/>
            <a:ext cx="324000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ectangular_manhole_units_001.png"/>
          <p:cNvPicPr/>
          <p:nvPr/>
        </p:nvPicPr>
        <p:blipFill>
          <a:blip r:embed="rId2"/>
          <a:stretch/>
        </p:blipFill>
        <p:spPr>
          <a:xfrm>
            <a:off x="4932360" y="4365720"/>
            <a:ext cx="33876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quare-manhole-cover.jpg"/>
          <p:cNvPicPr/>
          <p:nvPr/>
        </p:nvPicPr>
        <p:blipFill>
          <a:blip r:embed="rId3"/>
          <a:stretch/>
        </p:blipFill>
        <p:spPr>
          <a:xfrm>
            <a:off x="611280" y="2205000"/>
            <a:ext cx="3240000" cy="2135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4"/>
          <a:stretch/>
        </p:blipFill>
        <p:spPr>
          <a:xfrm>
            <a:off x="6480000" y="384120"/>
            <a:ext cx="230364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Striped Right Arrow 8"/>
          <p:cNvSpPr/>
          <p:nvPr/>
        </p:nvSpPr>
        <p:spPr>
          <a:xfrm flipH="1">
            <a:off x="5257080" y="762120"/>
            <a:ext cx="1143000" cy="484200"/>
          </a:xfrm>
          <a:custGeom>
            <a:avLst/>
            <a:gdLst/>
            <a:ahLst/>
            <a:rect l="l" t="t" r="r" b="b"/>
            <a:pathLst>
              <a:path w="11430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900906" y="121047"/>
                </a:lnTo>
                <a:lnTo>
                  <a:pt x="900906" y="0"/>
                </a:lnTo>
                <a:lnTo>
                  <a:pt x="1143000" y="242094"/>
                </a:lnTo>
                <a:lnTo>
                  <a:pt x="900906" y="484188"/>
                </a:lnTo>
                <a:lnTo>
                  <a:pt x="900906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Chevron 9"/>
          <p:cNvSpPr/>
          <p:nvPr/>
        </p:nvSpPr>
        <p:spPr>
          <a:xfrm flipH="1">
            <a:off x="8381160" y="1447920"/>
            <a:ext cx="381240" cy="484200"/>
          </a:xfrm>
          <a:custGeom>
            <a:avLst/>
            <a:gdLst>
              <a:gd name="textAreaLeft" fmla="*/ -360 w 381240"/>
              <a:gd name="textAreaRight" fmla="*/ 381240 w 381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3"/>
          <p:cNvSpPr/>
          <p:nvPr/>
        </p:nvSpPr>
        <p:spPr>
          <a:xfrm>
            <a:off x="4786200" y="-543240"/>
            <a:ext cx="4357800" cy="82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Arial Black"/>
              </a:rPr>
              <a:t>تستخدم عدة انواع من المواسير ف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ي </a:t>
            </a:r>
            <a:r>
              <a:rPr b="0" lang="ar-SA" sz="2000" spc="-1" strike="noStrike">
                <a:solidFill>
                  <a:srgbClr val="ffffff"/>
                </a:solidFill>
                <a:latin typeface="Arial Black"/>
              </a:rPr>
              <a:t>الصرف الصح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Arial Black"/>
              </a:rPr>
              <a:t>تصنع المواسير بأقطار مختلفة ومواد مختلفة حسب الغرض من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Arial Black"/>
              </a:rPr>
              <a:t>يجب ان تتوافر في المواسير ثلاثة شروط وهي المتانة وطول فترة الاستخدام والاقتصاد في التكالي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ar-EG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Arial Black"/>
              </a:rPr>
              <a:t>يجب ايضا الاهتمام بحماية اسطح المواسير الداخلية والخارجية حتى لا تتعرض للتآكل</a:t>
            </a:r>
            <a:r>
              <a:rPr b="0" lang="ar-SA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2" descr="3"/>
          <p:cNvPicPr/>
          <p:nvPr/>
        </p:nvPicPr>
        <p:blipFill>
          <a:blip r:embed="rId1"/>
          <a:stretch/>
        </p:blipFill>
        <p:spPr>
          <a:xfrm>
            <a:off x="171360" y="1852560"/>
            <a:ext cx="4576680" cy="43164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7" descr=""/>
          <p:cNvPicPr/>
          <p:nvPr/>
        </p:nvPicPr>
        <p:blipFill>
          <a:blip r:embed="rId2"/>
          <a:stretch/>
        </p:blipFill>
        <p:spPr>
          <a:xfrm>
            <a:off x="3919680" y="255600"/>
            <a:ext cx="15364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Content Placeholder 19459"/>
          <p:cNvGrpSpPr/>
          <p:nvPr/>
        </p:nvGrpSpPr>
        <p:grpSpPr>
          <a:xfrm>
            <a:off x="468360" y="765000"/>
            <a:ext cx="8363880" cy="4896360"/>
            <a:chOff x="468360" y="765000"/>
            <a:chExt cx="8363880" cy="48963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7272360" y="4129200"/>
              <a:ext cx="612720" cy="3960"/>
            </a:xfrm>
            <a:prstGeom prst="bentConnector3">
              <a:avLst>
                <a:gd name="adj1" fmla="val 194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6" idx="2"/>
            </p:cNvCxnSpPr>
            <p:nvPr/>
          </p:nvCxnSpPr>
          <p:spPr>
            <a:xfrm flipV="1">
              <a:off x="4651560" y="3825000"/>
              <a:ext cx="3240" cy="61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0"/>
            <p:cNvCxnSpPr>
              <a:stCxn id="63" idx="0"/>
              <a:endCxn id="68" idx="2"/>
            </p:cNvCxnSpPr>
            <p:nvPr/>
          </p:nvCxnSpPr>
          <p:spPr>
            <a:xfrm flipV="1" rot="16200000">
              <a:off x="5808240" y="828360"/>
              <a:ext cx="612720" cy="2932560"/>
            </a:xfrm>
            <a:prstGeom prst="bentConnector3">
              <a:avLst>
                <a:gd name="adj1" fmla="val 194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1"/>
            <p:cNvCxnSpPr>
              <a:stCxn id="66" idx="0"/>
              <a:endCxn id="68" idx="2"/>
            </p:cNvCxnSpPr>
            <p:nvPr/>
          </p:nvCxnSpPr>
          <p:spPr>
            <a:xfrm flipV="1" rot="16200000">
              <a:off x="4343760" y="2292840"/>
              <a:ext cx="612720" cy="3960"/>
            </a:xfrm>
            <a:prstGeom prst="bentConnector3">
              <a:avLst>
                <a:gd name="adj1" fmla="val 194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1032"/>
            <p:cNvCxnSpPr>
              <a:stCxn id="71" idx="0"/>
              <a:endCxn id="68" idx="2"/>
            </p:cNvCxnSpPr>
            <p:nvPr/>
          </p:nvCxnSpPr>
          <p:spPr>
            <a:xfrm flipH="1" flipV="1" rot="5400000">
              <a:off x="2879640" y="831960"/>
              <a:ext cx="612720" cy="2925720"/>
            </a:xfrm>
            <a:prstGeom prst="bentConnector3">
              <a:avLst>
                <a:gd name="adj1" fmla="val 194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" name="_s1033"/>
            <p:cNvSpPr/>
            <p:nvPr/>
          </p:nvSpPr>
          <p:spPr>
            <a:xfrm>
              <a:off x="3393720" y="765000"/>
              <a:ext cx="250992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 u="sng">
                  <a:solidFill>
                    <a:srgbClr val="e5ffff"/>
                  </a:solidFill>
                  <a:uFillTx/>
                  <a:latin typeface="Tahoma"/>
                  <a:cs typeface="Arial"/>
                </a:rPr>
                <a:t>أبرز أنواع المواسير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 u="sng">
                  <a:solidFill>
                    <a:srgbClr val="e5ffff"/>
                  </a:solidFill>
                  <a:uFillTx/>
                  <a:latin typeface="Tahoma"/>
                  <a:ea typeface="Arial"/>
                </a:rPr>
                <a:t> المستخدمة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34"/>
            <p:cNvSpPr/>
            <p:nvPr/>
          </p:nvSpPr>
          <p:spPr>
            <a:xfrm>
              <a:off x="468360" y="2601000"/>
              <a:ext cx="250992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3</a:t>
              </a: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 </a:t>
              </a: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cs typeface="Arial"/>
                </a:rPr>
                <a:t>المواسير الزهر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3396960" y="2601000"/>
              <a:ext cx="250992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</a:t>
              </a: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 </a:t>
              </a: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cs typeface="Arial"/>
                </a:rPr>
                <a:t>مواسير الخرسانة العادية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والمسلحة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_s1036"/>
            <p:cNvSpPr/>
            <p:nvPr/>
          </p:nvSpPr>
          <p:spPr>
            <a:xfrm>
              <a:off x="6325560" y="2601000"/>
              <a:ext cx="250668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</a:t>
              </a: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 مواسير الفخار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3399480" y="4437360"/>
              <a:ext cx="250416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</a:t>
              </a: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</a:t>
              </a: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cs typeface="Arial"/>
                </a:rPr>
                <a:t>المواسير البلاستيك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UPVC</a:t>
              </a:r>
              <a:r>
                <a:rPr b="0" lang="ar-SA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38"/>
            <p:cNvSpPr/>
            <p:nvPr/>
          </p:nvSpPr>
          <p:spPr>
            <a:xfrm>
              <a:off x="6325560" y="4437360"/>
              <a:ext cx="2504160" cy="12240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</a:t>
              </a:r>
              <a:r>
                <a:rPr b="0" lang="ar-EG" sz="21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المواسير الصلبة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 u="sng">
                <a:solidFill>
                  <a:srgbClr val="66ffcc"/>
                </a:solidFill>
                <a:uFillTx/>
                <a:latin typeface="Tahoma"/>
              </a:rPr>
              <a:t>2</a:t>
            </a:r>
            <a:r>
              <a:rPr b="0" lang="ar-EG" sz="2000" spc="-1" strike="noStrike" u="sng">
                <a:solidFill>
                  <a:srgbClr val="66ffcc"/>
                </a:solidFill>
                <a:uFillTx/>
                <a:latin typeface="Tahoma"/>
              </a:rPr>
              <a:t>- </a:t>
            </a:r>
            <a:r>
              <a:rPr b="1" lang="ar-SA" sz="2000" spc="-1" strike="noStrike" u="sng">
                <a:solidFill>
                  <a:srgbClr val="66ffcc"/>
                </a:solidFill>
                <a:uFillTx/>
                <a:latin typeface="Tahoma"/>
                <a:cs typeface="Times New Roman"/>
              </a:rPr>
              <a:t>مواسير الخرسانة العادية والمسلح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 u="sng">
                <a:solidFill>
                  <a:srgbClr val="66ffcc"/>
                </a:solidFill>
                <a:uFillTx/>
                <a:latin typeface="Tahoma"/>
              </a:rPr>
              <a:t>ا- مواسير الفخا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16360" y="2795760"/>
            <a:ext cx="13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932360" y="30780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يعتبر هذا النوع من افضل المواسير الحاملة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لمياه الصرف الصحي علي الاطلاق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 u="sng">
                <a:solidFill>
                  <a:srgbClr val="ffffff"/>
                </a:solidFill>
                <a:uFillTx/>
                <a:latin typeface="Arial"/>
              </a:rPr>
              <a:t>من أهم خواص مواسير الفخار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عمر الافتراضي طويل يبلغ عشرات السني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مقاومة ممتازة للأحماض والغازا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المتولدة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من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مياه الصرف الصح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 رخيصة الثم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سهولة في التركيب والصيان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8604360" y="3573360"/>
            <a:ext cx="215640" cy="144720"/>
          </a:xfrm>
          <a:prstGeom prst="leftArrow">
            <a:avLst>
              <a:gd name="adj1" fmla="val 50000"/>
              <a:gd name="adj2" fmla="val 372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8604360" y="3284640"/>
            <a:ext cx="215640" cy="144360"/>
          </a:xfrm>
          <a:prstGeom prst="leftArrow">
            <a:avLst>
              <a:gd name="adj1" fmla="val 50000"/>
              <a:gd name="adj2" fmla="val 373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8604360" y="2708280"/>
            <a:ext cx="215640" cy="144360"/>
          </a:xfrm>
          <a:prstGeom prst="leftArrow">
            <a:avLst>
              <a:gd name="adj1" fmla="val 50000"/>
              <a:gd name="adj2" fmla="val 373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Content Placeholder 3" descr="photo.jpg"/>
          <p:cNvPicPr/>
          <p:nvPr/>
        </p:nvPicPr>
        <p:blipFill>
          <a:blip r:embed="rId1"/>
          <a:stretch/>
        </p:blipFill>
        <p:spPr>
          <a:xfrm>
            <a:off x="5076720" y="4005360"/>
            <a:ext cx="3598920" cy="2678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6"/>
          <p:cNvSpPr/>
          <p:nvPr/>
        </p:nvSpPr>
        <p:spPr>
          <a:xfrm>
            <a:off x="0" y="40464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تج هذه المواسير بمصر ويستخدم فيها الاسمنت المقاوم للكبريتات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ومن اهم مميزاتها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EG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نتج حتى قطر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مم وفي الخرسانة المسلحة تصل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أقطار الي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00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مم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ذات وصلات مرنة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يلتصق اللحام الاسمنتي بها اكثر من التصاق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بالمواسير الفخار</a:t>
            </a:r>
            <a:r>
              <a:rPr b="0" lang="ar-EG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عيوب المواسير الخرسانية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لا تتحمل تفاعل غازات المجار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ثقل وزنا من مواسير الفخار او الزهر او الصلب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ليس من السهل معرفة عيوب ماسورة من الخرسانة 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بدون اجراء اختبارات خاصة</a:t>
            </a: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4140360" y="1628640"/>
            <a:ext cx="215640" cy="144720"/>
          </a:xfrm>
          <a:prstGeom prst="leftArrow">
            <a:avLst>
              <a:gd name="adj1" fmla="val 50000"/>
              <a:gd name="adj2" fmla="val 372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21"/>
          <p:cNvSpPr/>
          <p:nvPr/>
        </p:nvSpPr>
        <p:spPr>
          <a:xfrm>
            <a:off x="4140360" y="2133720"/>
            <a:ext cx="215640" cy="144360"/>
          </a:xfrm>
          <a:prstGeom prst="leftArrow">
            <a:avLst>
              <a:gd name="adj1" fmla="val 50000"/>
              <a:gd name="adj2" fmla="val 373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140360" y="2492280"/>
            <a:ext cx="215640" cy="144720"/>
          </a:xfrm>
          <a:prstGeom prst="leftArrow">
            <a:avLst>
              <a:gd name="adj1" fmla="val 50000"/>
              <a:gd name="adj2" fmla="val 372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1640" y="3500280"/>
            <a:ext cx="216000" cy="144720"/>
          </a:xfrm>
          <a:prstGeom prst="leftArrow">
            <a:avLst>
              <a:gd name="adj1" fmla="val 50000"/>
              <a:gd name="adj2" fmla="val 373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4211640" y="4076640"/>
            <a:ext cx="216000" cy="14436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Content Placeholder 3" descr="125.jpg"/>
          <p:cNvPicPr/>
          <p:nvPr/>
        </p:nvPicPr>
        <p:blipFill>
          <a:blip r:embed="rId2"/>
          <a:stretch/>
        </p:blipFill>
        <p:spPr>
          <a:xfrm>
            <a:off x="395280" y="4581360"/>
            <a:ext cx="4032360" cy="2054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1"/>
          <p:cNvSpPr/>
          <p:nvPr/>
        </p:nvSpPr>
        <p:spPr>
          <a:xfrm>
            <a:off x="4211640" y="3789360"/>
            <a:ext cx="216000" cy="14436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8604360" y="2421000"/>
            <a:ext cx="215640" cy="144360"/>
          </a:xfrm>
          <a:prstGeom prst="leftArrow">
            <a:avLst>
              <a:gd name="adj1" fmla="val 50000"/>
              <a:gd name="adj2" fmla="val 373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4394160" y="3170160"/>
            <a:ext cx="3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66ffcc"/>
                </a:solidFill>
                <a:uFillTx/>
                <a:latin typeface="Tahoma"/>
              </a:rPr>
              <a:t>3</a:t>
            </a:r>
            <a:r>
              <a:rPr b="0" lang="ar-EG" sz="2800" spc="-1" strike="noStrike" u="sng">
                <a:solidFill>
                  <a:srgbClr val="66ffcc"/>
                </a:solidFill>
                <a:uFillTx/>
                <a:latin typeface="Tahoma"/>
              </a:rPr>
              <a:t>- المواسير الزه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24000" y="836640"/>
            <a:ext cx="88200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ar-E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وتتميز  عن باقي انواع المواسير بالعمر الطويل جدا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وتصنع مواسير الزهر بصب الحديد الزهر في قوالب رأسية وتغمس المواسير بعد صبها في حمام من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مركب البيتومين الساخن لتكسيتها من الداخل و من الخارج لوقايتها من التآكل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ومن اهم مميزاتها</a:t>
            </a:r>
            <a:r>
              <a:rPr b="0" lang="ar-EG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يمكن تصنيعها بمصر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اسعارها مقبولة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لا تحتاج الي عزل داخلي او خارجي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سهولة في التركيب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يمكن استخدامها في خطوط الطرد وشبكات الانحدار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تعيش عمرا طويلا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عيوب المواسير الزه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سهلة الكسر وتحتاج لحرص شديد في النقل والتركيب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ثقيلة الوزن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-   تنتج في مصر بأقطار صغيرة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م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8928000" y="981000"/>
            <a:ext cx="216000" cy="14436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8928000" y="1268280"/>
            <a:ext cx="216000" cy="144720"/>
          </a:xfrm>
          <a:prstGeom prst="leftArrow">
            <a:avLst>
              <a:gd name="adj1" fmla="val 50000"/>
              <a:gd name="adj2" fmla="val 373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7777"/>
          <p:cNvPicPr/>
          <p:nvPr/>
        </p:nvPicPr>
        <p:blipFill>
          <a:blip r:embed="rId1"/>
          <a:stretch/>
        </p:blipFill>
        <p:spPr>
          <a:xfrm>
            <a:off x="250920" y="2060640"/>
            <a:ext cx="428472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 u="sng">
                <a:solidFill>
                  <a:srgbClr val="66ffcc"/>
                </a:solidFill>
                <a:uFillTx/>
                <a:latin typeface="Tahoma"/>
              </a:rPr>
              <a:t>4</a:t>
            </a:r>
            <a:r>
              <a:rPr b="0" lang="ar-EG" sz="3200" spc="-1" strike="noStrike" u="sng">
                <a:solidFill>
                  <a:srgbClr val="66ffcc"/>
                </a:solidFill>
                <a:uFillTx/>
                <a:latin typeface="Tahoma"/>
              </a:rPr>
              <a:t>- المواسير الصلب</a:t>
            </a:r>
            <a:r>
              <a:rPr b="0" lang="ar-EG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19640" y="1125360"/>
            <a:ext cx="57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ما تمتاز به مواسير الصلب عن مواسير الزه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يسهل نقل وتركيب المواسير لخفة وزنها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تتحمل مواسير الصلب تأثير المطرقة المائية أكثر م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مواسير الزهر كما انها تصنع لتتحمل الضغوط العالي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تكاليف مواسير الصلب أقل من الزهر في الأقطار التي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   تزيد علي 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بوصة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يسهل عمل مواسير الصلب بأقطار كبير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1"/>
          <p:cNvPicPr/>
          <p:nvPr/>
        </p:nvPicPr>
        <p:blipFill>
          <a:blip r:embed="rId1"/>
          <a:stretch/>
        </p:blipFill>
        <p:spPr>
          <a:xfrm>
            <a:off x="179280" y="836640"/>
            <a:ext cx="4859280" cy="56894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/>
          <p:cNvSpPr/>
          <p:nvPr/>
        </p:nvSpPr>
        <p:spPr>
          <a:xfrm>
            <a:off x="8820000" y="2852640"/>
            <a:ext cx="324000" cy="2160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8820000" y="2349360"/>
            <a:ext cx="324000" cy="2160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8820000" y="3573360"/>
            <a:ext cx="324000" cy="2160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820000" y="4365720"/>
            <a:ext cx="324000" cy="21564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66ffcc"/>
                </a:solidFill>
                <a:uFillTx/>
                <a:latin typeface="Tahoma"/>
              </a:rPr>
              <a:t>5</a:t>
            </a:r>
            <a:r>
              <a:rPr b="0" lang="ar-EG" sz="2800" spc="-1" strike="noStrike" u="sng">
                <a:solidFill>
                  <a:srgbClr val="66ffcc"/>
                </a:solidFill>
                <a:uFillTx/>
                <a:latin typeface="Tahoma"/>
              </a:rPr>
              <a:t>- المواسير البلاستي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3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ar-SA" sz="1300" spc="-1" strike="noStrike">
                <a:solidFill>
                  <a:srgbClr val="ffffff"/>
                </a:solidFill>
                <a:latin typeface="Tahoma"/>
              </a:rPr>
              <a:t>يتم تركيب مواسير البلاستيك بإستخدام حلقات مطاط أو بإستخدام المواد اللاصقة للحصول على وصل قوى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3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ar-SA" sz="1300" spc="-1" strike="noStrike">
                <a:solidFill>
                  <a:srgbClr val="ffffff"/>
                </a:solidFill>
                <a:latin typeface="Tahoma"/>
              </a:rPr>
              <a:t> وسريع لا يسمح بأى تسرب وتميز مواسير  البلاستيك المصنوعة من مادة عديد كلوريد الفينيل غير الملدن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3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ar-SA" sz="1300" spc="-1" strike="noStrike">
                <a:solidFill>
                  <a:srgbClr val="ffffff"/>
                </a:solidFill>
                <a:latin typeface="Tahoma"/>
              </a:rPr>
              <a:t> بالنعومة الهيدروليكية نتيجة صغر معامل الاحتكاك للمواسير مما يؤدي الي سرعة السوائل داخل المواسير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3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ar-SA" sz="1300" spc="-1" strike="noStrike">
                <a:solidFill>
                  <a:srgbClr val="ffffff"/>
                </a:solidFill>
                <a:latin typeface="Tahoma"/>
              </a:rPr>
              <a:t> فيحدث لها تنظيف ذاتي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ccff"/>
                </a:solidFill>
                <a:uFillTx/>
                <a:latin typeface="Tahoma"/>
              </a:rPr>
              <a:t>أهم مميزات مواسير البلاستيك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13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ar-EG" sz="1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1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سهلة التركيب – سهلة ال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ن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قل – سهلة الإصلاح و تتحمل الصدمات. 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تتميز بالمرونة و تكيفها مع تحركات التربة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وبالتالي مقاومتها للكسر.</a:t>
            </a:r>
            <a:r>
              <a:rPr b="0" lang="ar-SA" sz="15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تقاوم الأملاح و الأحماض و القلويات ولا تصدأ. 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سطحها الداخلى يتميز بالنعومة الهيدروليكية مما يؤدى إلى سرعة </a:t>
            </a:r>
            <a:br>
              <a:rPr sz="1500"/>
            </a:b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تدفق السوائل داخل المواسير و عدم ترسيب الفطريات والاملاح.     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تكلفة إنشاء و تركيب الشبكة أرخص من مثيلاتها من الأنواع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    الأخرى مع 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السرعة فى تنفيذ الشبكات. 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1500" spc="-1" strike="noStrike">
                <a:solidFill>
                  <a:srgbClr val="ffffff"/>
                </a:solidFill>
                <a:latin typeface="Tahoma"/>
              </a:rPr>
              <a:t>العمر التصميمي الأفتراضى لهذه المواسير أكثر من خمسون عاماً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ar-EG" sz="1500" spc="-1" strike="noStrike">
                <a:solidFill>
                  <a:srgbClr val="ffffff"/>
                </a:solidFill>
                <a:latin typeface="Tahoma"/>
              </a:rPr>
              <a:t>-كثرة المصانع اللي تنتجها في مصر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928000" y="476280"/>
            <a:ext cx="216000" cy="14436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8" descr="4"/>
          <p:cNvPicPr/>
          <p:nvPr/>
        </p:nvPicPr>
        <p:blipFill>
          <a:blip r:embed="rId1"/>
          <a:stretch/>
        </p:blipFill>
        <p:spPr>
          <a:xfrm>
            <a:off x="179280" y="1341360"/>
            <a:ext cx="43513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7-29T21:14:21Z</dcterms:modified>
  <cp:revision>1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