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47.jpeg" ContentType="image/jpeg"/>
  <Override PartName="/ppt/media/image55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9.png" ContentType="image/png"/>
  <Override PartName="/ppt/media/image39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12760" y="6948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416E98-685C-498D-B7ED-CFBEF57B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B007F8-C568-4772-86A4-DC950C12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662-ED62-407A-BFF3-63E1855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7C0-90AE-4D27-AECC-C541173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7FA-A53A-467D-9A67-D6503D2A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561-3BB8-4E4B-8A4C-6EAE41AC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7150-6CDA-45C4-A8F0-EC5A225F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2EAE-31C0-4B31-A783-B6DCBCF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F95-67FC-43D6-AE5A-A095358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3CD-FF94-49A6-9F55-7AE94E7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9DC-7A29-40FF-B663-B89B722A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1CDC-DC1F-4E68-82F9-3799BC2D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9AF-028B-4FD1-A834-F0C5D4C5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B6C-938E-4774-97D8-C54698B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C3F6-6BEB-48AB-AEF9-FF203B9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208-00AF-4A18-9B51-8A723FE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602F-77B7-44BD-B6AF-4A9F6CB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13B9-197A-48D7-B004-4682134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194-171E-4F00-926D-5AEFF978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987F-2C48-4ABB-9BBC-2F142FF2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A60A-4085-469D-A749-B9D8DA7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D706-03B8-4A29-A942-3DAE624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E8A8-0397-404A-8D7F-AABB100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F319-6AE9-4A4A-9114-0E59DEB9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8E1-045C-43B4-90C5-28EB714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0367-9F88-45D9-9C8B-E263731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F4B8-77C1-4BBD-BAE6-C48D1A7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7BDB-9760-4F1E-8C7C-D53B15A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84C1-FCEB-4ED2-B7E2-9684B8D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F995-B8EA-4F22-8A19-F6B779A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4321-D74E-4520-AB3F-901A33E4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9207-A10B-413D-AF50-1370DD1F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0DE5-CE1A-4EC7-B7A8-4FC46994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F7FB-894A-48CA-B784-6F264A2C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686D-C2C5-4C88-8A11-83F45900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C50-F046-4C1F-8BA0-CA825910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555C-52DD-4270-A83A-34A83AF9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287D-15BC-41D2-9CF8-1568F69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01D7-06AC-4181-8E3D-191444B8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714F-5334-4651-9EC7-80AEDF3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C332-379A-42F0-A473-042007E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CE91-4BFE-4EC0-AF67-EED3683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58B4-1918-4CC1-9286-DBC5DF5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7081-F641-448C-9A21-E5F38D26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DE2A-A809-4762-B017-3BE398A3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5C1E-51FF-4CDC-884F-1675F80F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256-D01E-4166-9D3F-7ADD293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7BFC-3C69-46AC-885E-5C4C3D0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65E9-DCEA-4AC0-BC52-AB2F843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FC0C-DFB9-4A99-BB6B-6F68FCDE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EFCF-9E6F-48FD-B6B7-1CC8EEC3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2D8B7-39CB-4CCA-86CD-FEBDE8C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FAE5-3D9B-4C18-A7FE-03275B7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6FD4-2C45-4826-BBEC-E3ABE3D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72EF-8CA0-4AEF-BF21-F60525D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0F070-39DA-4C0A-B877-785BB099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9032-4CE6-4264-AF5D-0A7AB298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A8A-1D17-401F-8CA5-8754AD3B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5B1A-1190-4655-B4AE-2F06BD2F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9F46-6BCC-4087-B84C-CE467BC9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CFF0-C569-44E6-9874-A083A29F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ABFF-DFA4-4CB1-B0DE-95192B9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98DD-9EA5-4C27-A424-917B960B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52D1-2230-4848-BB2C-5C65EEB4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EF18-0590-4433-8446-B56C5D8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F9A0-94EC-4BC4-A9C5-3B88704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52AE-775F-460A-B316-376109E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BA3E5-DDDC-432F-AC8A-1DFCC52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BEC-96E8-4092-BD39-7B32FB2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2180-860D-4E76-AF70-61BE719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DA70-6A58-4F4E-A19F-20570742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6E81-C978-4529-8237-7417DB8A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C09-80C0-48C2-A42D-14A80F2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7EF-2451-46E1-BAFE-2EB324E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0C0-E9F2-4748-974A-18C128749D8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80880" y="22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27" descr="JACOBSLOGO"/>
          <p:cNvPicPr/>
          <p:nvPr/>
        </p:nvPicPr>
        <p:blipFill>
          <a:blip r:embed="rId4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8F3-94E7-4F4B-8138-B691161584C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E1A-79F1-4B97-94F5-EBAA2C90979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7B9-C7A9-4516-B0F6-CF20FE7D809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5638-94B4-48D5-844B-9D6FD63B915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EC79-D3F7-4D42-96BC-44A63ABDF78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2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7437240" cy="16401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3733920" y="441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2f2f2"/>
                </a:solidFill>
                <a:latin typeface="Tahoma"/>
                <a:cs typeface="Tahoma"/>
              </a:rPr>
              <a:t>سامر سحتو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724280" y="57150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جامعة دمش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/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6858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cs typeface="Tahoma"/>
              </a:rPr>
              <a:t>استخدام طرائق الرص العميق لتحسين الترب القابلة للتم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83808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Deep Compaction Techniques for Liquefiable Soil Reme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فع للأعل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وران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moffatbs\My Documents\My Pictures\images.jpg"/>
          <p:cNvPicPr/>
          <p:nvPr/>
        </p:nvPicPr>
        <p:blipFill>
          <a:blip r:embed="rId2"/>
          <a:stretch/>
        </p:blipFill>
        <p:spPr>
          <a:xfrm>
            <a:off x="5257800" y="4038480"/>
            <a:ext cx="2743200" cy="205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Documents and Settings\moffatbs\My Documents\My Pictures\liquefactionconcretetank.jpg"/>
          <p:cNvPicPr/>
          <p:nvPr/>
        </p:nvPicPr>
        <p:blipFill>
          <a:blip r:embed="rId3"/>
          <a:stretch/>
        </p:blipFill>
        <p:spPr>
          <a:xfrm>
            <a:off x="1219320" y="3733920"/>
            <a:ext cx="3733560" cy="247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moffatbs\My Documents\My Pictures\sandboil12.jpg"/>
          <p:cNvPicPr/>
          <p:nvPr/>
        </p:nvPicPr>
        <p:blipFill>
          <a:blip r:embed="rId4"/>
          <a:srcRect l="0" t="0" r="4514" b="6403"/>
          <a:stretch/>
        </p:blipFill>
        <p:spPr>
          <a:xfrm>
            <a:off x="1905120" y="1905120"/>
            <a:ext cx="3276360" cy="2192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744-D54F-47DB-90AA-EB11BDF40C7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050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قصان قدرة تحم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هبوط الز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 التفاضل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052" descr="C:\Documents and Settings\moffatbs\My Documents\My Pictures\portdam.jpg"/>
          <p:cNvPicPr/>
          <p:nvPr/>
        </p:nvPicPr>
        <p:blipFill>
          <a:blip r:embed="rId2"/>
          <a:stretch/>
        </p:blipFill>
        <p:spPr>
          <a:xfrm>
            <a:off x="1066680" y="4648320"/>
            <a:ext cx="2819520" cy="18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3" descr="C:\Documents and Settings\moffatbs\My Documents\My Pictures\tiltedbuilding2.jpg"/>
          <p:cNvPicPr/>
          <p:nvPr/>
        </p:nvPicPr>
        <p:blipFill>
          <a:blip r:embed="rId3"/>
          <a:srcRect l="0" t="0" r="5253" b="6742"/>
          <a:stretch/>
        </p:blipFill>
        <p:spPr>
          <a:xfrm>
            <a:off x="1371600" y="1523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5" descr="C:\Documents and Settings\moffatbs\My Documents\My Pictures\liquef_2.jpg"/>
          <p:cNvPicPr/>
          <p:nvPr/>
        </p:nvPicPr>
        <p:blipFill>
          <a:blip r:embed="rId4"/>
          <a:srcRect l="1693" t="44364" r="55070" b="6470"/>
          <a:stretch/>
        </p:blipFill>
        <p:spPr>
          <a:xfrm>
            <a:off x="3657600" y="3429000"/>
            <a:ext cx="2249640" cy="1836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3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831-6D38-4CD5-9586-878C0D3AA1E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بتعد“ – هجر الموقع؛ عدم البنا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موافقة“ – دفع تكاليف الصيان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تأقلم“ – إنشائي؛ جيوتكنيك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8FF-5614-43D6-843A-B7EA5AF4495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إنشائيا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طاوعة إضاف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ند مرن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وتاد ضخمة أو قيصونات قادرة على تحمل القوى الجانب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ساسات ذات صلادة عال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ربط الأساسات المنفردة مع بعضها لزيادة صلادت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91C0-1C9D-4CD0-BA8F-7399725FBF3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جيوتكنيكي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E11-CEA6-42EA-8A33-97FCF26C97E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4" descr="C:\Documents and Settings\moffatbs\My Documents\My Pictures\23.jpg"/>
          <p:cNvPicPr/>
          <p:nvPr/>
        </p:nvPicPr>
        <p:blipFill>
          <a:blip r:embed="rId2"/>
          <a:srcRect l="0" t="23471" r="0" b="0"/>
          <a:stretch/>
        </p:blipFill>
        <p:spPr>
          <a:xfrm>
            <a:off x="3886200" y="304812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Documents and Settings\moffatbs\My Documents\My Pictures\CAW7IJ6J.jpg"/>
          <p:cNvPicPr/>
          <p:nvPr/>
        </p:nvPicPr>
        <p:blipFill>
          <a:blip r:embed="rId3"/>
          <a:stretch/>
        </p:blipFill>
        <p:spPr>
          <a:xfrm>
            <a:off x="144792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moffatbs\My Documents\My Pictures\test.jpg"/>
          <p:cNvPicPr/>
          <p:nvPr/>
        </p:nvPicPr>
        <p:blipFill>
          <a:blip r:embed="rId4"/>
          <a:stretch/>
        </p:blipFill>
        <p:spPr>
          <a:xfrm>
            <a:off x="1066680" y="1828800"/>
            <a:ext cx="3017880" cy="2765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9E33-F8D9-41C2-A813-A7A5714D7B1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مساحات الصغ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أعماق القليل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نتفاء إمكانية حدوث التميع مجددا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رع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طريقة غير صديقة للبيئ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أحجام ترحيل وجلب كب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زداد الكلفة كلما ازداد العمق و المساح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E4B4-CF45-4289-93FE-DA2AE1E11CC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4" descr="dry1"/>
          <p:cNvPicPr/>
          <p:nvPr/>
        </p:nvPicPr>
        <p:blipFill>
          <a:blip r:embed="rId2"/>
          <a:stretch/>
        </p:blipFill>
        <p:spPr>
          <a:xfrm>
            <a:off x="1066680" y="2819520"/>
            <a:ext cx="221940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6" descr="dry2"/>
          <p:cNvPicPr/>
          <p:nvPr/>
        </p:nvPicPr>
        <p:blipFill>
          <a:blip r:embed="rId3"/>
          <a:stretch/>
        </p:blipFill>
        <p:spPr>
          <a:xfrm>
            <a:off x="3657600" y="3733920"/>
            <a:ext cx="2251080" cy="2514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8" descr="dry3"/>
          <p:cNvPicPr/>
          <p:nvPr/>
        </p:nvPicPr>
        <p:blipFill>
          <a:blip r:embed="rId4"/>
          <a:stretch/>
        </p:blipFill>
        <p:spPr>
          <a:xfrm>
            <a:off x="6248520" y="2819520"/>
            <a:ext cx="222552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838080" y="5486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مسبر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733920" y="3276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المواد المالئ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6172200" y="5410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نتهاء تشكيل العمود الرم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6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1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8EB7-C129-4918-822C-A5234BD3850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حبيبية العميقة ضعيفة التماس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الفعال للرص حتى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تي تحوي على نسبة من النواعم لاتزيد عن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12-15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هتزاز عادة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اهتزاز الأفقي أفضل من الاهتزاز الشاقولي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كثافة النسبية التي يمكن الوصول لها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7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9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402-39E4-495C-B1CB-54406AE237A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 تترافق مع موجات صدم مؤذي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تؤمن التراص الدائم (حل جذري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قتصادية و فعال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عيوب أو السلبيات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وفر حد أدنى من الضغط الشاقولي في ا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(تربة عميقة نسبياً يعتمد على الجاذبية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نتشار الصغير (تتطلب عدد كبير من السبور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تؤمن الأعمدة الرملية أي تقوية ل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98C-EA1D-4EDF-8A58-CB4CD2B7A87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زايد السكان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رتفاع أسعار الأراض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خاطر التأسيس على هذا النوع من التر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2DE-31DD-4377-8A44-BAA4BE2FB1B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517240" cy="1451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ادة الردم ذات تدرج حبي جي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لا يتجاوز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6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حول المسب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باعدات بشكل عام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من المرك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B54-17D3-4B2C-9CE4-0E2F4DDA8A2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393" name="Vibro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F1CE-549F-40D7-B102-2A8E1FA4C47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Replac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9144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رأس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5530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ل العمود الحج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981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13" descr="wettop1"/>
          <p:cNvPicPr/>
          <p:nvPr/>
        </p:nvPicPr>
        <p:blipFill>
          <a:blip r:embed="rId2"/>
          <a:stretch/>
        </p:blipFill>
        <p:spPr>
          <a:xfrm>
            <a:off x="990720" y="2666880"/>
            <a:ext cx="1584360" cy="198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3986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5" descr="wettop2"/>
          <p:cNvPicPr/>
          <p:nvPr/>
        </p:nvPicPr>
        <p:blipFill>
          <a:blip r:embed="rId3"/>
          <a:stretch/>
        </p:blipFill>
        <p:spPr>
          <a:xfrm>
            <a:off x="2819520" y="2971800"/>
            <a:ext cx="158256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39765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7" descr="wettop3"/>
          <p:cNvPicPr/>
          <p:nvPr/>
        </p:nvPicPr>
        <p:blipFill>
          <a:blip r:embed="rId4"/>
          <a:stretch/>
        </p:blipFill>
        <p:spPr>
          <a:xfrm>
            <a:off x="4648320" y="3352680"/>
            <a:ext cx="1619280" cy="198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0"/>
          <p:cNvSpPr/>
          <p:nvPr/>
        </p:nvSpPr>
        <p:spPr>
          <a:xfrm>
            <a:off x="398628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9" descr="wettop4"/>
          <p:cNvPicPr/>
          <p:nvPr/>
        </p:nvPicPr>
        <p:blipFill>
          <a:blip r:embed="rId5"/>
          <a:stretch/>
        </p:blipFill>
        <p:spPr>
          <a:xfrm>
            <a:off x="6553080" y="3733920"/>
            <a:ext cx="1592280" cy="1981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23"/>
          <p:cNvSpPr/>
          <p:nvPr/>
        </p:nvSpPr>
        <p:spPr>
          <a:xfrm>
            <a:off x="274320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يل الحفرة بضخ الهواء او الما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46483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مادة الرد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2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5E1-8AEA-41DE-9DAC-41CCCFE0DA0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ناعمة و المتماسك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شبعة التي تحوي نسبة نواعم أكبر م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مق الرص يصل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CFA3-91F2-4C66-8728-95F06D8557F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 و الإيجا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تقوية دنيا ل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شكيل مصارات تصريف إضافية ل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قدرة تحمل التربة على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ليل الهبوطات المتوقع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مقاومة القص للترب الغضارية الطر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838-9A3C-4165-8A93-E419CD474D6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مكن أن تسد مسارات التصريف و تملئ بالمواد الناعم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عطي أي مقاومة لقوى الرف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 تفيد في حالات الخث الطري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ft Peat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أو الغضا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ay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فوق حد السيول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quid Lim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DFBD-2FE7-463A-9750-CB1F8A2E233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066680" y="1980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ستخدام مادة ردم ذات تدرج حبي جيد و حبيبات حادة الشك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تجهيز الحفرة إما بالهواء المضغوط أي بضخ 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عمد مدى الفائدة على التباعد بين الحف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قطار عاد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7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يصل إلى أربع أضعاف قطر العمو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345-4212-4002-A196-2B1034CF0AC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000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ضخ الماء/ التغذية العلو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كمية المياه الجارية كبي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595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4" descr="vibro-replacement_2_3_0001"/>
          <p:cNvPicPr/>
          <p:nvPr/>
        </p:nvPicPr>
        <p:blipFill>
          <a:blip r:embed="rId2"/>
          <a:srcRect l="4911" t="948" r="6096" b="3600"/>
          <a:stretch/>
        </p:blipFill>
        <p:spPr>
          <a:xfrm>
            <a:off x="762120" y="1676520"/>
            <a:ext cx="2620800" cy="3549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7"/>
          <p:cNvSpPr/>
          <p:nvPr/>
        </p:nvSpPr>
        <p:spPr>
          <a:xfrm>
            <a:off x="2938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6" descr="vibro-replacement_3_2_0001"/>
          <p:cNvPicPr/>
          <p:nvPr/>
        </p:nvPicPr>
        <p:blipFill>
          <a:blip r:embed="rId3"/>
          <a:srcRect l="1654" t="2658" r="1506" b="4421"/>
          <a:stretch/>
        </p:blipFill>
        <p:spPr>
          <a:xfrm>
            <a:off x="3505320" y="3886200"/>
            <a:ext cx="3751200" cy="277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6576-1186-4E5E-A53A-5F5B0B31F44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بدائل.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جر المرصوص (الاستبدال الديناميكي)/ حفر محاطة بقمصان و يتم رمي الأحجار من الأعلى ثم يتم رصها ديناميك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صغيرة: بقطر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، أسرع في التنفيذ وتعطي توفيراً بالكلف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كبيرة: يستعمل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رؤوس اهتزاز في نفس الوقت و تصل مساحة العم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r>
              <a:rPr b="0" lang="ar-SY" sz="2800" spc="-1" strike="noStrike" baseline="30000">
                <a:solidFill>
                  <a:srgbClr val="000000"/>
                </a:solidFill>
                <a:latin typeface="Corbel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7A6-4C12-48B7-862F-E6E7210BB60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44" name="YouTube - Vibro Replacemnt - Top Feed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E5F7-0E9C-4D83-910D-5330D373DBA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ميع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 و المخاط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تقنيات تقليل الاضرار و المخاط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انشائ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c00000"/>
                </a:solidFill>
                <a:uFillTx/>
                <a:latin typeface="Corbel"/>
                <a:cs typeface="Tahoma"/>
              </a:rPr>
              <a:t>طرائق الرص العميق الحقل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نتاج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8BB7-9A0B-467C-B2D4-A8FF60B3272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namic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6385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4" descr="deepcompac"/>
          <p:cNvPicPr/>
          <p:nvPr/>
        </p:nvPicPr>
        <p:blipFill>
          <a:blip r:embed="rId2"/>
          <a:srcRect l="0" t="0" r="7230" b="4644"/>
          <a:stretch/>
        </p:blipFill>
        <p:spPr>
          <a:xfrm>
            <a:off x="6705720" y="3200400"/>
            <a:ext cx="2203200" cy="281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3738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6" descr="dc"/>
          <p:cNvPicPr/>
          <p:nvPr/>
        </p:nvPicPr>
        <p:blipFill>
          <a:blip r:embed="rId3"/>
          <a:stretch/>
        </p:blipFill>
        <p:spPr>
          <a:xfrm>
            <a:off x="457200" y="2895480"/>
            <a:ext cx="197820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moffatbs\My Documents\My Pictures\4901.jpg"/>
          <p:cNvPicPr/>
          <p:nvPr/>
        </p:nvPicPr>
        <p:blipFill>
          <a:blip r:embed="rId4"/>
          <a:stretch/>
        </p:blipFill>
        <p:spPr>
          <a:xfrm>
            <a:off x="4648320" y="2666880"/>
            <a:ext cx="1922400" cy="2819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C:\Documents and Settings\moffatbs\My Documents\My Pictures\DynamcCompB.jpg"/>
          <p:cNvPicPr/>
          <p:nvPr/>
        </p:nvPicPr>
        <p:blipFill>
          <a:blip r:embed="rId5"/>
          <a:stretch/>
        </p:blipFill>
        <p:spPr>
          <a:xfrm>
            <a:off x="2590920" y="3657600"/>
            <a:ext cx="1969920" cy="278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1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8EF4-A693-430D-A05F-B1715BDCE6C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مل المخلل، الردميات، مخلفات المناجم، الترب الانخفاسية، مكبات النفا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ستخدم عادة في المناطق المأهول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فة أما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 عن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07B7-F65D-4DD4-AC33-A731C647531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0912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عتبر رخيصة و غير مكلفة نسب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دائية جد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لعمل على عدة مسارات لتأمين الارتصاص المستم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د تؤدي إلى موجات صدم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المراقبة الجدية و المستمرة للهبوطات في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A16-2B67-485D-80D4-702811D4572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السقوط من ارتفاع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6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وزان تصل إل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طن؛ شكل الوزن ليس له تأث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تحديد مسارات الطرق لابد من توفر نتائج التحريات الجيوتكنيكية و خصوصاً وضعية الطبق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د الأعلى الاقتصادي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ضربات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دراسة مدى تأثير الاهتزازت على المنشآت المحيط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وضع برنامج لعمل الرافع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E038-8334-4EC5-8E3F-6EF143AAE99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0" name="YouTube - Dynamic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2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DB46-5B69-4262-B342-575947946F3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4" name="Dynamic Compaction2.wmv" descr=""/>
          <p:cNvPicPr/>
          <p:nvPr/>
        </p:nvPicPr>
        <p:blipFill>
          <a:blip r:embed="rId2"/>
          <a:stretch/>
        </p:blipFill>
        <p:spPr>
          <a:xfrm>
            <a:off x="1523880" y="18018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1AA-F789-46C1-8BF4-59C6A7BF3C8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osive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181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0" descr="C:\Documents and Settings\moffatbs\My Documents\My Pictures\Mt%20St%20helens.jpg"/>
          <p:cNvPicPr/>
          <p:nvPr/>
        </p:nvPicPr>
        <p:blipFill>
          <a:blip r:embed="rId1"/>
          <a:stretch/>
        </p:blipFill>
        <p:spPr>
          <a:xfrm>
            <a:off x="4114800" y="3962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C:\Documents and Settings\moffatbs\My Documents\My Pictures\flash2-pic.jpg"/>
          <p:cNvPicPr/>
          <p:nvPr/>
        </p:nvPicPr>
        <p:blipFill>
          <a:blip r:embed="rId2"/>
          <a:srcRect l="0" t="2305" r="0" b="0"/>
          <a:stretch/>
        </p:blipFill>
        <p:spPr>
          <a:xfrm>
            <a:off x="609480" y="2438280"/>
            <a:ext cx="3733920" cy="249264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2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1BB-6CBE-4543-9C6C-6D06E7CCCF9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خللة، عديمة التماسك، المشبعة ب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ة للتصريف بشكل ح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عالية مع العم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AEC6-8AEE-474A-AA33-A13300D648B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عالجة كامل الطبقة القابلة ل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حدودة الانتشار ومسيطر علي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بالتصميم الجيد فإنه يمكن استخدامها فقط ضمن حدود المنش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D50-09D5-4099-A820-A62CE83D4AB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جود نسبة من النواعم في التربة تعيق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طبقات ذات التماسك تمنع تسريب ضغط الماء الإضافي و تخمد الاهتزاز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وقت فاصل بين كل تفجير و الذي يليه بحد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دق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حليل كل طبقات التربة و معرفة خصائص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E7A-5B33-4B69-B0BF-F6886C3619B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3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عندما يختل التوازن الستاتيكي للتربة إما من خلال حمولة متكررة أو تحميل ديناميكي مما يجعل التربة تسلك سلوك اقرب إلى الأوساط السائلة و تبتعد عن كونها جسم صلب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2273-0B63-498D-A49C-CF74B19F887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جفي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مضخات العم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آبار نخفيض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خناد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9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0A2-95A4-4B83-90C2-8AD5F8FD813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4" descr="northernwick2"/>
          <p:cNvPicPr/>
          <p:nvPr/>
        </p:nvPicPr>
        <p:blipFill>
          <a:blip r:embed="rId1"/>
          <a:srcRect l="1064" t="530" r="641" b="2167"/>
          <a:stretch/>
        </p:blipFill>
        <p:spPr>
          <a:xfrm>
            <a:off x="609480" y="1752480"/>
            <a:ext cx="4038840" cy="227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moffatbs\My Documents\My Pictures\drain_01.jpg"/>
          <p:cNvPicPr/>
          <p:nvPr/>
        </p:nvPicPr>
        <p:blipFill>
          <a:blip r:embed="rId2"/>
          <a:stretch/>
        </p:blipFill>
        <p:spPr>
          <a:xfrm>
            <a:off x="5638680" y="2590920"/>
            <a:ext cx="2527560" cy="38098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:\Documents and Settings\moffatbs\My Documents\My Pictures\Drain_02.bmp"/>
          <p:cNvPicPr/>
          <p:nvPr/>
        </p:nvPicPr>
        <p:blipFill>
          <a:blip r:embed="rId3"/>
          <a:stretch/>
        </p:blipFill>
        <p:spPr>
          <a:xfrm>
            <a:off x="2895480" y="44956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C:\Documents and Settings\moffatbs\My Documents\My Pictures\Drain_03.jpg"/>
          <p:cNvPicPr/>
          <p:nvPr/>
        </p:nvPicPr>
        <p:blipFill>
          <a:blip r:embed="rId4"/>
          <a:srcRect l="0" t="0" r="0" b="1312"/>
          <a:stretch/>
        </p:blipFill>
        <p:spPr>
          <a:xfrm>
            <a:off x="304920" y="3809880"/>
            <a:ext cx="2836800" cy="197820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2" descr=""/>
          <p:cNvPicPr/>
          <p:nvPr/>
        </p:nvPicPr>
        <p:blipFill>
          <a:blip r:embed="rId5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B52-6224-4E1D-BC81-E3C1F3BD432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990360" y="188136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إلغاء قابلية ا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صير طول مسار التصريف الطبيعي و دعم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ريع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ي حال الهزات الشديدة قد تكون سرعة التصريف أقل من سرعة تولد الضغط المسام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حصول الهبوطات؛ تأمين المطاوعة الكافية إنشائ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نظام تصريف ثانوي سطح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BC23-AE4B-4C72-9518-D510344D425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ادة ما تستعمل مع طريقة أخرى من المذكورين سابق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فاذية المصرف يجب أن تكون أكبر من نفاذية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أن نضمن عملها من خلال تصميمها بفراغات لايمكن أن تسد بحيبات التربة و تسمح للحبيبات الناعمة بالمرو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اختبارها و التأكد من عدم انسدادها اثناء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A2C-1AEF-455C-9A01-489FA8C23C3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066320" y="19807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وامل المؤثر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خصائص التربة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هول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ثر البيئ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ثيرات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منشأ و أهمي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عمق المطلوب معالج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 الاقتصاد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8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B6A-65F5-4A5E-AC9A-2138BA4EF2A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جراءات الواجب اتباعه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جراء التجارب الحقلية قبل و بعد اجراء المعالجة و ذلك لمعرفة مقدار التحسين الحاصل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لاختراق النظامي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ختراق المخروط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ارب التحمي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ن المهم إجراء التحريات و الاختبارات الجيوتكنيكية اللازمة للموقع قبل اختيار طريقة المعالجة للترب القابلة للتمي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962F-E297-4862-A797-9A249BA0A1B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Practical Foundation Engineering Handbook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Brown, Robert Wade, McGraw-Hill, Inc., New York, NY 1995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Soil Remediation Techniques for Reduction of Earthquake-Induced Liquefac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 Barbara S. Moffat, PE,  Jacobs Civil Inc. American Society of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Civi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Engineers2006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Handbook on Liquefaction Remediation of Reclaimed Land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Edited by Port and Harbour Research Institute, Ministry of Transport, Japan; Translated by US Army Corps of Engineers, USA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A.A.Balkema, Rotterdam, Netherlands (1997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455A-E251-4F11-9AA4-F2FDD681DB9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Corbel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9" name="Picture 5" descr="damascus logo.jpg"/>
          <p:cNvPicPr/>
          <p:nvPr/>
        </p:nvPicPr>
        <p:blipFill>
          <a:blip r:embed="rId1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D3F-F305-4B11-9AA6-730D4EAA813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Documents and Settings\moffatbs\My Documents\My Pictures\mw_LithostaticVsPorePres.gif"/>
          <p:cNvPicPr/>
          <p:nvPr/>
        </p:nvPicPr>
        <p:blipFill>
          <a:blip r:embed="rId2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Documents and Settings\moffatbs\My Documents\My Pictures\mw_PorePres.gif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114300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1447920" y="5715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ضغط الماء المسام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25780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قوى التماس بين الحبيب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8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37D1-B339-4DC3-826E-F5D17C93E8B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508040" y="38862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30" descr="C:\Documents and Settings\moffatbs\My Documents\My Pictures\slide3.jpg"/>
          <p:cNvPicPr/>
          <p:nvPr/>
        </p:nvPicPr>
        <p:blipFill>
          <a:blip r:embed="rId2"/>
          <a:srcRect l="-176" t="-20192" r="-1185" b="-5364"/>
          <a:stretch/>
        </p:blipFill>
        <p:spPr>
          <a:xfrm>
            <a:off x="1600200" y="2514600"/>
            <a:ext cx="6629400" cy="3054240"/>
          </a:xfrm>
          <a:prstGeom prst="rect">
            <a:avLst/>
          </a:prstGeom>
          <a:ln w="0">
            <a:noFill/>
          </a:ln>
        </p:spPr>
      </p:pic>
      <p:sp>
        <p:nvSpPr>
          <p:cNvPr id="311" name="Oval 47"/>
          <p:cNvSpPr/>
          <p:nvPr/>
        </p:nvSpPr>
        <p:spPr>
          <a:xfrm>
            <a:off x="5715000" y="2438280"/>
            <a:ext cx="1981080" cy="2057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7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E51-317A-4D79-81C9-1240AC06059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بيعة الترب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ure of So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كثافة التر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درجة الإشبا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عة التحمي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ading Magnit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عة اللازمة لكي تبدأ ظاهرة التميع بالظهو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عمق الطبقة القابلة للتمي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حمولة الديناميكي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ype of Dynamic Loa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فجائية (تفجي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مستقرة متزايد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C715-F6B3-4AAD-8BD0-96415EDFAB5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حريات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ركيب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ختبارات ال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جل التاريخي للمنط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قيي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.S. = CRR / CS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C:\Documents and Settings\moffatbs\My Documents\My Pictures\dh4.jpg"/>
          <p:cNvPicPr/>
          <p:nvPr/>
        </p:nvPicPr>
        <p:blipFill>
          <a:blip r:embed="rId2"/>
          <a:stretch/>
        </p:blipFill>
        <p:spPr>
          <a:xfrm>
            <a:off x="1981080" y="2590920"/>
            <a:ext cx="1220760" cy="1904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75E-5125-4566-9133-1733903D9DE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وسع جانب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نهيا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المنحدر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C:\Documents and Settings\moffatbs\My Documents\My Pictures\Landslide2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00400" cy="214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Documents and Settings\moffatbs\My Documents\My Pictures\crackhwy.jpg"/>
          <p:cNvPicPr/>
          <p:nvPr/>
        </p:nvPicPr>
        <p:blipFill>
          <a:blip r:embed="rId3"/>
          <a:stretch/>
        </p:blipFill>
        <p:spPr>
          <a:xfrm>
            <a:off x="609480" y="2514600"/>
            <a:ext cx="2895840" cy="2509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C:\Documents and Settings\moffatbs\My Documents\My Pictures\Liquefaction.jpg"/>
          <p:cNvPicPr/>
          <p:nvPr/>
        </p:nvPicPr>
        <p:blipFill>
          <a:blip r:embed="rId4"/>
          <a:stretch/>
        </p:blipFill>
        <p:spPr>
          <a:xfrm>
            <a:off x="2590920" y="1523880"/>
            <a:ext cx="3124080" cy="16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887-C033-42C8-A901-A1C1C07D17B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35:52Z</dcterms:created>
  <dc:creator>Bellevue</dc:creator>
  <dc:description/>
  <dc:language>en-US</dc:language>
  <cp:lastModifiedBy>SaMeR</cp:lastModifiedBy>
  <dcterms:modified xsi:type="dcterms:W3CDTF">2010-06-11T01:27:27Z</dcterms:modified>
  <cp:revision>88</cp:revision>
  <dc:subject/>
  <dc:title>RISK MANAGEMENT</dc:title>
</cp:coreProperties>
</file>