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56.png" ContentType="image/png"/>
  <Override PartName="/ppt/media/image57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wmf" ContentType="image/x-wmf"/>
  <Override PartName="/ppt/media/image3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5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C9A-2752-4D0F-AC78-F6E5B211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32F-229C-4F64-930B-B5675E98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676-4C38-4C1E-B914-92AC9D08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B77-F33E-48DE-A4D7-571F69E4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6CA-28CB-4FD4-B35F-C2ECC57E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567-839A-48A7-9B63-8A89446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F8D-490A-49F9-AC96-57C5A7CD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2C6-94FF-40F4-ACCB-C638CA5C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547-1588-4DB3-A57D-0E7213BF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E37-BC83-478B-A854-14B30D07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E33-A1CB-4B41-B4E3-D402F0E4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3BB-8BFE-4081-BA55-6CFA1817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B60E-8473-49F8-B090-5189EBABFA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8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8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8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stellar"/>
                <a:cs typeface="Akhbar MT"/>
              </a:rPr>
              <a:t>عنوان البح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cc00"/>
                </a:solidFill>
                <a:latin typeface="Harlow Solid Italic"/>
                <a:cs typeface="Akhbar MT"/>
              </a:rPr>
              <a:t>دراسة تأثير التربة الإنتفاخية على سلوك الأوتاد المنفر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9216"/>
                </a:solidFill>
                <a:latin typeface="Times New Roman"/>
                <a:ea typeface="Simplified Arabic"/>
              </a:rPr>
              <a:t>Studying the Influence of Expansive Soil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9216"/>
                </a:solidFill>
                <a:latin typeface="Times New Roman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d09216"/>
                </a:solidFill>
                <a:latin typeface="Times New Roman"/>
                <a:ea typeface="Simplified Arabic"/>
              </a:rPr>
              <a:t>behaviour  of the Single P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إشراف الدكتور  :   طلال عوا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khbar MT"/>
              </a:rPr>
              <a:t>  تقديم           :   رجاء عبا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Bold Italic Ar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b4b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b4b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b4b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b4b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569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 ويوضح الشكل التالي نتائج نموذجية للدراسة الرياض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G.T. Hong; R.L. Lytton-2008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)    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: 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0360" cy="499896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 يبين الشكل إجهادات القص على جانبي الوتد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وى القص وعزم الإنعطاف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408720" cy="420048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511344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  <p:sp>
        <p:nvSpPr>
          <p:cNvPr id="1032" name=""/>
          <p:cNvSpPr/>
          <p:nvPr/>
        </p:nvSpPr>
        <p:spPr>
          <a:xfrm>
            <a:off x="4527720" y="1293840"/>
            <a:ext cx="461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بالاعتماد على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stic The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من قبل الباح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Arial"/>
                <a:ea typeface="Times New Roman"/>
              </a:rPr>
              <a:t>H.G.Poulos,E.H.Davis-1988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نتجت المخططات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319640" y="3924000"/>
            <a:ext cx="48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عندما يكون تغير إنتفاخ التربة مع العمق ببطء    ( الحا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يكون تشوه الوتد  أكبر منه في الحالة التي يكون فيها تغير الإنتفاخ مع العمق سريعاً    ( الحال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كذلك نلاحظ أن قوة الشد أكبرعندما يكون تغير إنتفاخ التربة مع العمق ببطء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918160" y="220680"/>
            <a:ext cx="68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4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تأثير تغير شكل تشوه( إنتفاخ ) التربة مع العمق :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00244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الترب ذات القدرة الكبيرة على الإنتفاخ سيكون الطول المطلوب للوتد كبير وغير عملي وفي هذه الحالة من المفضل إستخدام أوتاد ذي قاعدة موسعة أو وتد معدني ذو لولب حلزون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cal pier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-  من الممكن أن استبدال عدة أمتار علوية من التربة المنتفخة( المتوسطة إلى ضعيفة الإنتفاخ)  بتربة غير قابلة للإنتفاخ  يلغي الحاجة إلى إستخدام الأوتا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-  من الممكن تخ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فيض تشوه الوتد بوضع تربة غير قابلة للإنتفاخ حول الوتد أو    تغليف الوتد بغلاف معدني لعمق معين من أجل تخفيض الإحتكاك بين التربة والوتد . </a:t>
            </a:r>
            <a:r>
              <a:rPr b="0" lang="ar-SY" sz="2400" spc="-1" strike="noStrike">
                <a:solidFill>
                  <a:srgbClr val="99cc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8</a:t>
            </a:r>
            <a:r>
              <a:rPr b="0" lang="ar-SY" sz="2400" spc="-1" strike="noStrike">
                <a:solidFill>
                  <a:srgbClr val="99cc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6160"/>
          </a:xfrm>
          <a:prstGeom prst="rect">
            <a:avLst/>
          </a:prstGeom>
          <a:solidFill>
            <a:srgbClr val="b1b8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3838aa"/>
                </a:solidFill>
                <a:latin typeface="ESRI IGL Font25"/>
                <a:cs typeface="Monotype Koufi"/>
              </a:rPr>
              <a:t>نتائج وملاحظات</a:t>
            </a:r>
            <a:r>
              <a:rPr b="1" lang="ar-SY" sz="2800" spc="-1" strike="noStrike">
                <a:solidFill>
                  <a:srgbClr val="3838aa"/>
                </a:solidFill>
                <a:latin typeface="ESRI IGL Font25"/>
                <a:ea typeface="Monotype Koufi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الإشارة الأولى لتشوه( إرتفاع) الوتد تنعكس في ظهور تشققات قطرية تظهر أولا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في جدران البلوك والآجر وتكون عريضة من الأعلى وتضيق بإتجاه الأسف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وعندما يتعاظم إرتفاع الوتد من الممكن أن تظهر مثل هذه التشققات في جدران القبو.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99cc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99cc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ff"/>
                </a:solidFill>
                <a:latin typeface="Arial"/>
              </a:rPr>
              <a:t>الشكل التالي يظهر التشققات في جدار البلوك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6804360" cy="4681800"/>
          </a:xfrm>
          <a:prstGeom prst="rect">
            <a:avLst/>
          </a:prstGeom>
          <a:ln w="28440">
            <a:solidFill>
              <a:srgbClr val="f4dc78"/>
            </a:solidFill>
            <a:miter/>
          </a:ln>
        </p:spPr>
      </p:pic>
      <p:sp>
        <p:nvSpPr>
          <p:cNvPr id="1040" name=""/>
          <p:cNvSpPr/>
          <p:nvPr/>
        </p:nvSpPr>
        <p:spPr>
          <a:xfrm>
            <a:off x="755640" y="5515560"/>
            <a:ext cx="66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a520"/>
                </a:solidFill>
                <a:latin typeface="Arial"/>
                <a:ea typeface="Simple Indust Shaded"/>
              </a:rPr>
              <a:t>Masonary building near Nanning city in Southern Chino founded on pileslocated on expensive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700"/>
                            </p:stCondLst>
                            <p:childTnLst>
                              <p:par>
                                <p:cTn id="9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4" dur="2000" fill="hold"/>
                                        <p:tgtEl>
                                          <p:spTgt spid="10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700"/>
                            </p:stCondLst>
                            <p:childTnLst>
                              <p:par>
                                <p:cTn id="91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7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ff"/>
                </a:solidFill>
                <a:latin typeface="Arial"/>
              </a:rPr>
              <a:t>الشكل التالي يظهر التشققات في جدار القبو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6408720" cy="4771800"/>
          </a:xfrm>
          <a:prstGeom prst="rect">
            <a:avLst/>
          </a:prstGeom>
          <a:ln w="28440">
            <a:solidFill>
              <a:srgbClr val="f4dc78"/>
            </a:solidFill>
            <a:miter/>
          </a:ln>
        </p:spPr>
      </p:pic>
      <p:sp>
        <p:nvSpPr>
          <p:cNvPr id="1043" name=""/>
          <p:cNvSpPr/>
          <p:nvPr/>
        </p:nvSpPr>
        <p:spPr>
          <a:xfrm>
            <a:off x="892080" y="5588640"/>
            <a:ext cx="627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a520"/>
                </a:solidFill>
                <a:latin typeface="Arial"/>
              </a:rPr>
              <a:t>Typical  cracks  developing in  the  basement w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a520"/>
                </a:solidFill>
                <a:latin typeface="Arial"/>
              </a:rPr>
              <a:t>immediately  beneath the window. Note that cr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a520"/>
                </a:solidFill>
                <a:latin typeface="Arial"/>
              </a:rPr>
              <a:t>Is  wide at  the  top  and  narrow  at  the 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180"/>
                            </p:stCondLst>
                            <p:childTnLst>
                              <p:par>
                                <p:cTn id="9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6" dur="2000" fill="hold"/>
                                        <p:tgtEl>
                                          <p:spTgt spid="10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180"/>
                            </p:stCondLst>
                            <p:childTnLst>
                              <p:par>
                                <p:cTn id="92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4460"/>
                            </p:stCondLst>
                            <p:childTnLst>
                              <p:par>
                                <p:cTn id="93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2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760"/>
                            </p:stCondLst>
                            <p:childTnLst>
                              <p:par>
                                <p:cTn id="93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5" dur="500" fill="hold"/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4248360" cy="5616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1045" name=""/>
          <p:cNvSpPr/>
          <p:nvPr/>
        </p:nvSpPr>
        <p:spPr>
          <a:xfrm>
            <a:off x="468360" y="260280"/>
            <a:ext cx="8064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a520"/>
                </a:solidFill>
                <a:latin typeface="Arial"/>
              </a:rPr>
              <a:t>Severe damage to a reinforced concrete columns due to differential heave  ,  in Saudi Arabia  (Al-Shamrani and Dhowian, 2003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1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560"/>
                            </p:stCondLst>
                            <p:childTnLst>
                              <p:par>
                                <p:cTn id="9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4" dur="2000" fill="hold"/>
                                        <p:tgtEl>
                                          <p:spTgt spid="10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25500"/>
                </a:solidFill>
                <a:uFillTx/>
                <a:latin typeface="Arial"/>
              </a:rPr>
              <a:t>References</a:t>
            </a:r>
            <a:r>
              <a:rPr b="1" lang="en-US" sz="2400" spc="-1" strike="noStrike" u="sng">
                <a:solidFill>
                  <a:srgbClr val="d255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0" y="625320"/>
            <a:ext cx="91440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-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 of pile foundations on Expansive So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D. Nelson, Kuo-Chieh Chao &amp; Daniel D. Ove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ado State University,20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-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 pressures and deformation in civil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Expansive Soils,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ssertation by Gyeong Taek H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as A&amp;M University,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ndations on Expansive Soils 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n, F.H, 198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-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ying the Influence of Expansive Soil on the St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in Statues of the Single Rigid and Elastic Pi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ssertation by Issa Kousa  , Bakow ,198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-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les Foundation analysis and design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.G.Poulos ,E.H.Davis.19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ical Piers vs. Drilled Concrete P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Highly Expansive Soil Areas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an J. Hardesty, P.E.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ndations in Expansive Soils  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A.Wickham,JR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il engineering testing ,design ,and remediatio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Fu HuaChen,P.E.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ndations on Difficult Soils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eleven</a:t>
            </a:r>
            <a:r>
              <a:rPr b="0" lang="en-US" sz="1800" spc="-1" strike="noStrike">
                <a:solidFill>
                  <a:srgbClr val="b1b8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onotype Koufi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onotype Koufi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onotype Koufi"/>
              </a:rPr>
              <a:t>]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onotype Koufi"/>
              </a:rPr>
              <a:t>Helical Design Theory and Application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Darin Willis, P.E.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onotype Kouf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668a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5092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500"/>
                </a:solidFill>
                <a:latin typeface="Castellar"/>
                <a:ea typeface="Bold Italic Art"/>
              </a:rPr>
              <a:t>Thanks for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5472360" cy="40896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p:transition spd="med">
    <p:split dir="out" orient="vert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99640" y="-360"/>
            <a:ext cx="7812360" cy="636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 u="sng">
                <a:solidFill>
                  <a:srgbClr val="000000"/>
                </a:solidFill>
                <a:uFillTx/>
                <a:latin typeface="Arial"/>
              </a:rPr>
              <a:t>الحركة أو الإزاحة النسبية بين الوتد وجزيئات الترب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عندما  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كون تشوه التربة يساوي تشوه الوتد  وبالت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لا توجد حركة نسبية بين جزيئات التربة و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فوق هذه النقطة تحاول إجهادات القص رفع الوتد نحو الأعل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و تحت هذه النقطة تحاول إجهادات القص تثبيت الوتد وإرسائ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علاقة بين إجهاد القص و</a:t>
            </a:r>
            <a:r>
              <a:rPr b="0" lang="ar-SY" sz="2400" spc="-1" strike="noStrike" u="sng">
                <a:solidFill>
                  <a:srgbClr val="000000"/>
                </a:solidFill>
                <a:uFillTx/>
                <a:latin typeface="Arial"/>
              </a:rPr>
              <a:t>الحركة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النسبية ك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إجهاد القص بين التربة والوت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مقاومة القص الحد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قطر 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صل إجهاد القص إلى القيمة الحدية عندما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حرك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نسبية بين التربة والوتد تساوي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من قطر الوتد </a:t>
            </a:r>
            <a:r>
              <a:rPr b="0" lang="en-US" sz="2000" spc="-1" strike="noStrike">
                <a:solidFill>
                  <a:srgbClr val="4ea53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4ea539"/>
                </a:solidFill>
                <a:latin typeface="Arial"/>
              </a:rPr>
              <a:t>Aurora et al. 1981</a:t>
            </a:r>
            <a:r>
              <a:rPr b="0" lang="en-US" sz="2000" spc="-1" strike="noStrike">
                <a:solidFill>
                  <a:srgbClr val="4ea53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6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547640" y="2781360"/>
                <a:ext cx="18003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15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244000" y="364500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244000" y="4005360"/>
                <a:ext cx="314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44000" y="4365720"/>
                <a:ext cx="27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0" y="18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236000" y="1125360"/>
                <a:ext cx="61272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35280" y="404640"/>
                <a:ext cx="11984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ΔH</m:t>
                    </m:r>
                    <m:r>
                      <m:t xml:space="preserve">−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920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99cc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cc00"/>
                </a:solidFill>
                <a:latin typeface="Arial"/>
              </a:rPr>
              <a:t> مقارنة نتائج الدراسة الرياضية مع نتائج حقلية مقاس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أجريت الدراسة الحقلية من قبل 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Kim and O’Neill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لوتد بيتوني مصبوب بالمكان قطر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c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طول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وض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في تربة غضارية متوسطة الإنتفا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تم الحصول على النتائج التا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-  إنتفاخ سطح التربة الأعظمي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m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-  رأس الوتد إرتفع بمقدا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mm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-  الضغط الأفقي الأعظم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pa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على عم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1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337440" cy="481176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763640" y="620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يبين الشكل التالي نتائج العلاقات الحسابية والنتائج المقاسة حقليا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درجة التوافق بينهما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99cc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وى الرفع الأعظم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4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9</a:t>
            </a:r>
            <a:r>
              <a:rPr b="0" lang="ar-SY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عند الأعما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4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لى التوالي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كما في الشك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677360" cy="334008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8459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كذلك يوضح الشكل التالي قوة القص وإجهاد القص التي تميل إلى رفع الوتد في جزئه العلوي ثم تتحول إلى قوى إرساء عند العم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buClr>
                <a:srgbClr val="99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نلاحظ توافق جيد ب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القيم المقاسة حقلياً من قب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Kim and O’Neill 1998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والقيم الحسابية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ن قبل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       (</a:t>
            </a: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G.T. Hong; R.L. Lytton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3600720" cy="403236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0" y="50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965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3165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2b27"/>
                </a:solidFill>
                <a:latin typeface="Arial"/>
              </a:rPr>
              <a:t>( </a:t>
            </a:r>
            <a:r>
              <a:rPr b="0" lang="en-US" sz="2400" spc="-1" strike="noStrike">
                <a:solidFill>
                  <a:srgbClr val="bb2b27"/>
                </a:solidFill>
                <a:latin typeface="Arial"/>
              </a:rPr>
              <a:t>Nelson and Miller, 1992</a:t>
            </a:r>
            <a:r>
              <a:rPr b="0" lang="en-US" sz="2400" spc="-1" strike="noStrike">
                <a:solidFill>
                  <a:srgbClr val="bb2b27"/>
                </a:solidFill>
                <a:latin typeface="Arial"/>
              </a:rPr>
              <a:t>)    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bb2b27"/>
                </a:solidFill>
                <a:latin typeface="Arial"/>
              </a:rPr>
              <a:t>:  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نقسم التربة إل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طبقة سماكة كل منه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قدار إنتفاخ التربة في الحقل ك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ضغط الإنتفاخ من أجل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olume oedometer test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دليل الإنتف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الإجهاد الكلي في منتصف الطبقة المدروسة ويساوي إلى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جهاد الوزن الذا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الفعال مضافاً إليه الحمولة الخارجية في حالة وجود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956720" y="4292640"/>
                <a:ext cx="3650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6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79640" y="2924280"/>
                <a:ext cx="2448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ΔZ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  <m:sup>
                                <m:r>
                                  <m:t xml:space="preserve">َ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o</m:t>
                                </m:r>
                              </m:sub>
                              <m:sup>
                                <m:r>
                                  <m:t xml:space="preserve">َ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028000" y="479736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956720" y="5589720"/>
                <a:ext cx="717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6160"/>
          </a:xfrm>
          <a:prstGeom prst="rect">
            <a:avLst/>
          </a:prstGeom>
          <a:solidFill>
            <a:srgbClr val="b1b8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Y" sz="2800" spc="-1" strike="noStrike">
                <a:solidFill>
                  <a:srgbClr val="3838aa"/>
                </a:solidFill>
                <a:latin typeface="Arial"/>
                <a:cs typeface="Monotype Koufi"/>
              </a:rPr>
              <a:t>حساب تشوه (إنتفاخ) التربة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تحديد        ضغط الإنتفاخ :</a:t>
            </a: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35280" y="1557360"/>
            <a:ext cx="526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الإجهاد الذي يتم غمر العينة عن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ضغط الإنتفاخ من أج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ion swell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   و تختلف قيمتها حسب منرالات الغضار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 soil in Color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92436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6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867280" y="1413000"/>
                <a:ext cx="2446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164360" y="333360"/>
                <a:ext cx="415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792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101080" y="2349360"/>
                <a:ext cx="436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101080" y="1916280"/>
                <a:ext cx="3618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437600" y="3587760"/>
                <a:ext cx="10080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-2341440" y="558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يتم تحديد       دليل الإنتفاخ  كما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008600" cy="573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572000" y="2421000"/>
                <a:ext cx="38386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%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sub>
                          <m:sup>
                            <m:r>
                              <m:t xml:space="preserve">َ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σ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َ</m:t>
                                    </m:r>
                                  </m:sup>
                                </m:sSubSup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%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</m:t>
                                    </m:r>
                                  </m:sub>
                                  <m:sup>
                                    <m:r>
                                      <m:t xml:space="preserve">َ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σ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8244000" y="1208160"/>
                <a:ext cx="4316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924360" y="1013040"/>
            <a:ext cx="43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هو ميل المستقي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في الشكل المجاو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948360" y="333360"/>
                <a:ext cx="432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643280" y="3645000"/>
                <a:ext cx="25750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%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  <m:sup>
                                <m:r>
                                  <m:t xml:space="preserve">َ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o</m:t>
                                </m:r>
                              </m:sub>
                              <m:sup>
                                <m:r>
                                  <m:t xml:space="preserve">َ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788000" y="5589720"/>
                <a:ext cx="2519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ΔZ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  <m:sup>
                                <m:r>
                                  <m:t xml:space="preserve">َ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o</m:t>
                                </m:r>
                              </m:sub>
                              <m:sup>
                                <m:r>
                                  <m:t xml:space="preserve">َ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4941720"/>
                <a:ext cx="136836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%S</m:t>
                    </m:r>
                    <m:r>
                      <m:t xml:space="preserve">⋅</m:t>
                    </m:r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2</a:t>
            </a:r>
            <a:r>
              <a:rPr b="0" lang="ar-SY" sz="2400" spc="-1" strike="noStrike">
                <a:solidFill>
                  <a:srgbClr val="45ae34"/>
                </a:solidFill>
                <a:latin typeface="Arial"/>
              </a:rPr>
              <a:t>)</a:t>
            </a:r>
            <a:r>
              <a:rPr b="0" lang="ar-SY" sz="2400" spc="-1" strike="noStrike">
                <a:solidFill>
                  <a:srgbClr val="bb2b27"/>
                </a:solidFill>
                <a:latin typeface="Arial"/>
              </a:rPr>
              <a:t>  حساب إنتفاخ التربة </a:t>
            </a:r>
            <a:r>
              <a:rPr b="0" lang="ar-SA" sz="2400" spc="-1" strike="noStrike">
                <a:solidFill>
                  <a:srgbClr val="bb2b27"/>
                </a:solidFill>
                <a:latin typeface="Arial"/>
              </a:rPr>
              <a:t>حسب </a:t>
            </a:r>
            <a:r>
              <a:rPr b="0" lang="en-US" sz="2400" spc="-1" strike="noStrike">
                <a:solidFill>
                  <a:srgbClr val="bb2b27"/>
                </a:solidFill>
                <a:latin typeface="Arial"/>
              </a:rPr>
              <a:t>Mustafaev.A.A</a:t>
            </a:r>
            <a:r>
              <a:rPr b="1" lang="ar-SY" sz="2400" spc="-1" strike="noStrike">
                <a:solidFill>
                  <a:srgbClr val="bb2b27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bb2b27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]</a:t>
            </a:r>
            <a:r>
              <a:rPr b="0" lang="ar-SA" sz="4400" spc="-1" strike="noStrike">
                <a:solidFill>
                  <a:srgbClr val="85b4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3170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أعطى العلاقة التجريبية التا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الإنتفاخ النسبي             الإنتفاخ النسبي الحر          ضغط الإنتفا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الإجهادات الناتج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ن أجل وتد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حمولة الحرجة على الوت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الإجهادات الناتجة من تأثير وزن التربة غير المرطبة والواقعة خلف المساحة المرطب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الوزن الحجمي للتربة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         عمق التأسي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عامل يتحدد عمق التأسيس وأبعاد المساحة المرطب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843120" y="806400"/>
                <a:ext cx="2016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  <m:sup>
                        <m:r>
                          <m:t xml:space="preserve">∘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to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w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90640" y="2205000"/>
                <a:ext cx="1800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356000" y="49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8244000" y="165744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156360" y="1643040"/>
                <a:ext cx="414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  <m:sup>
                        <m:r>
                          <m:t xml:space="preserve">∘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851280" y="1671480"/>
                <a:ext cx="3668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78040" y="2852640"/>
                <a:ext cx="1081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65080" y="3341520"/>
                <a:ext cx="2870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Z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90640" y="5229360"/>
                <a:ext cx="2232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z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570960" y="1517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244000" y="4581360"/>
                <a:ext cx="6476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317080" y="4076640"/>
                <a:ext cx="271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8300880" y="5589720"/>
                <a:ext cx="276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638680" y="5618160"/>
                <a:ext cx="360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317080" y="6165720"/>
                <a:ext cx="358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8286840" y="3429000"/>
                <a:ext cx="434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991280" cy="836640"/>
          </a:xfrm>
          <a:prstGeom prst="rect">
            <a:avLst/>
          </a:prstGeom>
          <a:solidFill>
            <a:srgbClr val="b1b8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838aa"/>
                </a:solidFill>
                <a:latin typeface="Arial"/>
                <a:cs typeface="Akhbar MT"/>
              </a:rPr>
              <a:t>المحتو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Unicode MS"/>
                <a:cs typeface="Arabic Transparent"/>
              </a:rPr>
              <a:t>مقد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 Unicode MS"/>
                <a:cs typeface="Arabic Transparent"/>
              </a:rPr>
              <a:t>الدراسة الحقلية والرياضية لتأثير التربة الإنتفاخية على الأوتا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 Unicode MS"/>
                <a:cs typeface="Arabic Transparent"/>
              </a:rPr>
              <a:t>حساب تشوه (إنتفاخ) الترب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Unicode MS"/>
                <a:cs typeface="Arabic Transparent"/>
              </a:rPr>
              <a:t>التحليل الرياضي لسلوك الأوتاد المنفردة  في تربة إنتفاخ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 Unicode MS"/>
                <a:cs typeface="Arabic Transparent"/>
              </a:rPr>
              <a:t>نموذج مخبري لدراسة الأوتاد في تربة إنتفاخ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Unicode MS"/>
                <a:cs typeface="Arabic Transparent"/>
              </a:rPr>
              <a:t>تصميم الأوتاد المتوضعة في الترب الإنتفاخ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 Unicode MS"/>
                <a:cs typeface="Arabic Transparent"/>
              </a:rPr>
              <a:t>العوامل المؤثرة على سلوك الأوتاد في الترب الإنتفاخية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Arabic Transpare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تائج وملاحظات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  <a:cs typeface="Arabic Transparent"/>
              </a:rPr>
              <a:t>المراج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11640" y="836640"/>
            <a:ext cx="4402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نمثل ضغط الإنتفاخ بمسقيم شاقولي يبعد عن المحورالشاقولي بالمقدا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بالتالي سوف يتقاطع مع منحني الإجهادات الكل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تتحدد لدينا منطقتان كما في الشكل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- المنطقة الإولى يحصل فيها إنتف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- المنطقة الثانية لا يحصل فيها إنتف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237200" cy="4681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076720" y="5587920"/>
                <a:ext cx="11304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TOT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75280" y="4710240"/>
                <a:ext cx="1058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TO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126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111720" y="2522520"/>
                <a:ext cx="4399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t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32440" y="1254240"/>
                <a:ext cx="41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 flipV="1">
            <a:off x="0" y="-720"/>
            <a:ext cx="91440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ن أجل تحديد      عمق منطقة الإنتفاخ نأخذ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ن أجل تحديد مقدار إنتفاخ التربة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786720" y="260280"/>
                <a:ext cx="306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79640" y="404640"/>
                <a:ext cx="1582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979640" y="981000"/>
                <a:ext cx="2522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1484280"/>
                <a:ext cx="2160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076720" y="2349360"/>
                <a:ext cx="16560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8</m:t>
                            </m:r>
                            <m:r>
                              <m:t xml:space="preserve">P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148360" y="1484280"/>
                <a:ext cx="2352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2160" y="1628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24000" y="3141720"/>
                <a:ext cx="13683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124000" y="4076640"/>
                <a:ext cx="3525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  <m:sup>
                        <m:r>
                          <m:t xml:space="preserve">∘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  <m:sup>
                            <m:r>
                              <m:t xml:space="preserve">∘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  <m:sup>
                            <m:r>
                              <m:t xml:space="preserve">∘</m:t>
                            </m:r>
                          </m:sup>
                        </m:sSubSup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468760" y="5013360"/>
                <a:ext cx="29577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64080" y="5877000"/>
                <a:ext cx="1525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932360" y="3284640"/>
                <a:ext cx="328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726160" y="4221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تغير تشوه (إنتفاخ)التربة مع العمق بعد تقريب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من أجل جملة إحداثية تبدأ من قدم الوتد يكون :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71640" y="1628640"/>
                <a:ext cx="2565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00360" y="3500280"/>
                <a:ext cx="4062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780000" y="4221000"/>
                <a:ext cx="2155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187280" y="522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35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معادلة التفاضلية التي تصف تغير الإجهادات والتشوهات لوتد منفرد في تربة إنتفاخية محمل بحمولة شاقول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تحديد موقع النقطة المحا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تحديد قوة الرفع للتربة المؤثرة على الوت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776520"/>
          </a:xfrm>
          <a:prstGeom prst="rect">
            <a:avLst/>
          </a:prstGeom>
          <a:solidFill>
            <a:srgbClr val="b1b8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3838aa"/>
                </a:solidFill>
                <a:latin typeface="Arial"/>
                <a:cs typeface="Monotype Koufi"/>
              </a:rPr>
              <a:t>التحليل الرياضي لسلوك الأوتاد المنفردة  في تربة إنتفاخية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bb2b27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bb2b27"/>
                </a:solidFill>
                <a:latin typeface="Arial"/>
              </a:rPr>
              <a:t> المعادلة التفاضلية التي تصف تغير الإجهادات والتشوهات لوتد منفرد في تربة</a:t>
            </a:r>
            <a:br>
              <a:rPr sz="2400"/>
            </a:br>
            <a:r>
              <a:rPr b="1" lang="ar-SY" sz="2400" spc="-1" strike="noStrike">
                <a:solidFill>
                  <a:srgbClr val="bb2b27"/>
                </a:solidFill>
                <a:latin typeface="Arial"/>
              </a:rPr>
              <a:t>  إنتفاخية محمل بحمولة شاقولية </a:t>
            </a:r>
            <a:r>
              <a:rPr b="1" lang="en-US" sz="2400" spc="-1" strike="noStrike">
                <a:solidFill>
                  <a:srgbClr val="bb2b27"/>
                </a:solidFill>
                <a:latin typeface="Arial"/>
              </a:rPr>
              <a:t>P</a:t>
            </a:r>
            <a:r>
              <a:rPr b="1" lang="ar-SY" sz="2400" spc="-1" strike="noStrike">
                <a:solidFill>
                  <a:srgbClr val="bb2b27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bb2b27"/>
                </a:solidFill>
                <a:latin typeface="Arial"/>
              </a:rPr>
              <a:t>:</a:t>
            </a:r>
            <a:r>
              <a:rPr b="1" lang="ar-SY" sz="2400" spc="-1" strike="noStrike">
                <a:solidFill>
                  <a:srgbClr val="bb2b27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4400" spc="-1" strike="noStrike">
                <a:solidFill>
                  <a:srgbClr val="85b4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10920" y="1341000"/>
            <a:ext cx="61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تد طول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مساحة مقطع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الحمولة الشاقولي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ك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قطع من الوتد يحصل فيه تشوه شاقو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يكون الإجها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عبر عن مقاومة التربة وفق السطح الجانبي للوت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عامل يصف مقاومة إزاحة التربة على محيط 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قاومة الوتد يعبر عنها بقوة حجمية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محيط الوت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138560" y="2233440"/>
                <a:ext cx="43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869080" y="2622600"/>
                <a:ext cx="9349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765440" y="3573360"/>
                <a:ext cx="2014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29600" y="4005360"/>
                <a:ext cx="3207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-900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098960" y="4738680"/>
                <a:ext cx="420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172360" y="5357880"/>
                <a:ext cx="2476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716436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7636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558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476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5ae34"/>
                </a:solidFill>
                <a:latin typeface="Arial"/>
                <a:ea typeface="Monotype Koufi"/>
              </a:rPr>
              <a:t>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  <a:ea typeface="Monotype Koufi"/>
              </a:rPr>
              <a:t>4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  <a:ea typeface="Monotype Kouf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68000" y="106488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نكتب معادلة التوازن لعنصر تفاضلي من 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(مع الإستعانة بالشكل المجاور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بتعويض        بقيمتها ثم إصلاح المعادلة ينتج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 u="sng">
                <a:solidFill>
                  <a:srgbClr val="bb2b27"/>
                </a:solidFill>
                <a:uFillTx/>
                <a:latin typeface="Arial"/>
              </a:rPr>
              <a:t>وهي المعادلة التفاضلية التي تصف سلوك وتد يتوضع في تربة إنتفاخية</a:t>
            </a:r>
            <a:r>
              <a:rPr b="0" lang="ar-SY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718160" y="4869000"/>
                <a:ext cx="34588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527280" cy="532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92360" y="2924280"/>
                <a:ext cx="5256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σ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σF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Fd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337520" y="420696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95280" y="-1717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لحل هذه المعادلة وبفرض سماكة طبقة التربة الإنتفاخية أكبر من طول 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نلاحظ أن التابع        متقطع لذلك نقسم الوتد إلى جزأين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4ea5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الجزء الأول :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حيث يظهر تأثير التربة الإنتفاخية معادلته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هي معادلة تفاضلية غير متجانسة لهاحل عام وحل خا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حل الكلي هومجموع الحل العام والخاص وينتج: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688080" y="922320"/>
                <a:ext cx="3603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508720" y="1844640"/>
                <a:ext cx="1295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95280" y="2133720"/>
                <a:ext cx="36194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sub>
                            </m:sSub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09680" y="3789360"/>
                <a:ext cx="4968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Z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Z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Z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084720" y="3789360"/>
                <a:ext cx="1008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084720" y="4581360"/>
                <a:ext cx="16560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84720" y="5445000"/>
                <a:ext cx="21607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195640" y="609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084720" y="6093000"/>
                <a:ext cx="144000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5509800" y="3860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4ea5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الجزء الثاني :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لا يظهر تأثير للتربة الإنتفاخية معادلت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هي معادلة تفاضلية غير متجان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حل الكلي هو مجموع الحل العام والخا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292720" y="549360"/>
                <a:ext cx="1440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556000" y="1484280"/>
                <a:ext cx="3243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sub>
                            </m:sSub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56000" y="4365720"/>
                <a:ext cx="3240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Z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Z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516720" y="4437000"/>
                <a:ext cx="1008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1440" y="4508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90000"/>
              </a:lnSpc>
              <a:spcBef>
                <a:spcPts val="601"/>
              </a:spcBef>
              <a:buClr>
                <a:srgbClr val="4ea5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ea539"/>
                </a:solidFill>
                <a:uFillTx/>
                <a:latin typeface="Arial"/>
              </a:rPr>
              <a:t>تحديد ثوابت التكام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عند مقطع الوتد العلو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فإن التشوه النسبي يتحدد بالعلاقة :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                        ينتج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2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)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عند مقطع الوتد السف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فإن التشوه النسبي يتحدد بالعلاقة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                       ينتج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171440" y="1484280"/>
                <a:ext cx="1866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sub>
                            </m:sSub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sSub>
                      <m:e/>
                      <m: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171440" y="2421000"/>
                <a:ext cx="3141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244520" y="3860640"/>
                <a:ext cx="18003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sub>
                            </m:sSub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sSub>
                      <m:e/>
                      <m: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187280" y="4797360"/>
                <a:ext cx="1656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187280" y="5877000"/>
                <a:ext cx="2089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58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6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0" y="35424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7200" y="2622600"/>
            <a:ext cx="247680" cy="171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55640" y="6121440"/>
            <a:ext cx="247680" cy="17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   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)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عند الحد الفاصل بين جزأي الوتد يكو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- يعطي الشرطان السابقان معادلتين بمجهولين          بحلهما ينت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40000" y="1916280"/>
                <a:ext cx="3024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sSub>
                      <m:e/>
                      <m: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sSub>
                      <m:e/>
                      <m: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340000" y="2924280"/>
                <a:ext cx="2663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1</m:t>
                                    </m:r>
                                  </m:e>
                                  <m: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sub>
                                </m:sSub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</m:e>
                      <m: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sub>
                                </m:sSub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</m:e>
                      <m: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419640" y="4437000"/>
                <a:ext cx="7077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778040" y="2133720"/>
            <a:ext cx="287280" cy="2379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63640" y="3227400"/>
            <a:ext cx="289080" cy="239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64360" cy="809640"/>
          </a:xfrm>
          <a:prstGeom prst="rect">
            <a:avLst/>
          </a:prstGeom>
          <a:solidFill>
            <a:srgbClr val="b1b8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838aa"/>
                </a:solidFill>
                <a:latin typeface="Arial"/>
                <a:ea typeface="Akhbar MT"/>
              </a:rPr>
              <a:t>  مقد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85b4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خدمت الأوتاد كطريقة للتأسيس على الترب المنتفخة حتى عا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دون مراعاة تأثير التربة الإنتفاخية , لكن فيما بعد تم ملاحظة وجود تشوهات في المنشآت المتوضعة على تربة إنتفاخية  حتى في حالة إستخدام الأساسات الوتدية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85b4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bd9225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  <a:ea typeface="Simplified Arabic"/>
              </a:rPr>
              <a:t>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  <a:ea typeface="Simplified Arabic"/>
              </a:rPr>
              <a:t>1956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  <a:ea typeface="Simplified Arabic"/>
              </a:rPr>
              <a:t>.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  <a:ea typeface="Simplified Arabic"/>
              </a:rPr>
              <a:t>Bozozuk.M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  <a:ea typeface="Simplified Arabic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ام بمراقبة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يت سكني في جنوب أفريقيا تم تأسيسهم على تربة إنتفاخ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استخدام أوتاد من البيتون المسلح بطو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ذات قواعد موسعة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حي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جد تشوهات هيكلية في تلك الأبن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بمراقبة الأوتاد وجد أنها قد إرتفعت بمقدار وصل في بعضها إلى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mm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قد تبين أن جسم الوتد قد انهار بسبب عدم كفاية التسليح الموضوع ف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نتيجة تأثير التربة الإنتفاخية وعدم مراعاة ذلك في الدراس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907920"/>
                <a:ext cx="67960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∘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[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L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A</m:t>
                            </m:r>
                            <m:sPr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∘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h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∘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∘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620640"/>
            <a:ext cx="91440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270080" y="3213000"/>
                <a:ext cx="681984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∘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hA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∘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A</m:t>
                            </m:r>
                            <m:sPr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∘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∘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]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∘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∘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796000" y="5661000"/>
                <a:ext cx="1441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∘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050920" y="5734080"/>
                <a:ext cx="2448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∘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∘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12880" y="3400560"/>
            <a:ext cx="218880" cy="247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826920" y="1154160"/>
            <a:ext cx="219240" cy="247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-1810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b2b27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 u="sng">
                <a:solidFill>
                  <a:srgbClr val="bb2b27"/>
                </a:solidFill>
                <a:uFillTx/>
                <a:latin typeface="Arial"/>
              </a:rPr>
              <a:t>تحديد موقع النقطة المحايدة</a:t>
            </a:r>
            <a:r>
              <a:rPr b="1" lang="ar-SY" sz="2400" spc="-1" strike="noStrike">
                <a:solidFill>
                  <a:srgbClr val="bb2b27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]</a:t>
            </a:r>
            <a:r>
              <a:rPr b="0" lang="ar-SA" sz="2800" spc="-1" strike="noStrike">
                <a:solidFill>
                  <a:srgbClr val="85b4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من أجل النقطة المحايدة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بعد موقع النقطة المحايدة عن أسفل الوت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ويحسب من المعادلة التا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92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140360" y="1125360"/>
                <a:ext cx="1160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8028000" y="2060640"/>
                <a:ext cx="3668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35280" y="3429000"/>
                <a:ext cx="48243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076560" cy="3524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b2b27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 u="sng">
                <a:solidFill>
                  <a:srgbClr val="bb2b27"/>
                </a:solidFill>
                <a:uFillTx/>
                <a:latin typeface="Arial"/>
              </a:rPr>
              <a:t>قوة رفع التربة المؤثرة على الوتد</a:t>
            </a:r>
            <a:r>
              <a:rPr b="1" lang="ar-SY" sz="2400" spc="-1" strike="noStrike">
                <a:solidFill>
                  <a:srgbClr val="bb2b27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]</a:t>
            </a:r>
            <a:r>
              <a:rPr b="0" lang="ar-SA" sz="2800" spc="-1" strike="noStrike">
                <a:solidFill>
                  <a:srgbClr val="85b4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قوة رفع التربة المؤثرة على الوتد تظهر في المنطقة الفع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والعلاقة التي تحدد هذه القوة لها الشكل التالي 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وبإجراء التكامل تنتج المعادلة التا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971640" y="3933720"/>
                <a:ext cx="734544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alignl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∘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f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∘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979640" y="2276640"/>
                <a:ext cx="23763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1</m:t>
                                    </m:r>
                                  </m:e>
                                  <m: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sub>
                                </m:sSub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0" y="4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 u="sng">
                <a:solidFill>
                  <a:srgbClr val="bb2b27"/>
                </a:solidFill>
                <a:uFillTx/>
                <a:latin typeface="Arial"/>
                <a:cs typeface="Monotype Koufi"/>
              </a:rPr>
              <a:t>مثال: 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]</a:t>
            </a:r>
            <a:r>
              <a:rPr b="0" lang="ar-SA" sz="2800" spc="-1" strike="noStrike">
                <a:solidFill>
                  <a:srgbClr val="85b4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تد من البيتون المسلح  قطره          طول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عامل مرونته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حمل شاقولياً بحمولة             يتوضع في  تربة غضارية منتفخة سماكتها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زنها الحجمي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ضغط إنتفاخها                      الإنتفاخ النسبي الح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تحديد عمق المنطقة المنتفخة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قدار إنتفاخ التربة حول الوتد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بفرض                  يطلب إنشاء مخطط تغير الإزاحة الشاقولية والإجهادات الناظم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تحديد موضع النقطة المحايد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قوة رفع التربة المؤثرة على الوت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435640" y="692280"/>
                <a:ext cx="5871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140360" y="692280"/>
                <a:ext cx="504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0" y="126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900000" y="692280"/>
                <a:ext cx="17272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0" y="6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940360" y="1197000"/>
                <a:ext cx="7444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3059280" y="17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971640" y="1197000"/>
                <a:ext cx="4381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867280" y="1557360"/>
                <a:ext cx="14414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24440" y="1989000"/>
                <a:ext cx="128124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556000" y="1989000"/>
                <a:ext cx="9698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  <m:sup>
                        <m:r>
                          <m:t xml:space="preserve">∘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451640" y="2421000"/>
                <a:ext cx="1262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1908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364000" y="2421000"/>
                <a:ext cx="1500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rPr>
                        <m:lit/>
                        <m:nor/>
                      </m:rPr>
                      <m:t xml:space="preserve">M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45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219640" y="3284640"/>
                <a:ext cx="352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88" name=""/>
          <p:cNvGraphicFramePr/>
          <p:nvPr/>
        </p:nvGraphicFramePr>
        <p:xfrm>
          <a:off x="5076720" y="3789360"/>
          <a:ext cx="33048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3789360"/>
                    <a:ext cx="3304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72360" y="4221000"/>
                <a:ext cx="927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تحديد عمق المنطقة المنتفخة</a:t>
            </a:r>
            <a:r>
              <a:rPr b="0" lang="ar-SY" sz="3200" spc="-1" strike="noStrike">
                <a:solidFill>
                  <a:srgbClr val="4ea53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500720" y="1413000"/>
                <a:ext cx="1636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181400" y="2421000"/>
                <a:ext cx="2884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284720" y="3645000"/>
                <a:ext cx="25858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8</m:t>
                            </m:r>
                            <m:r>
                              <m:t xml:space="preserve">P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4211640" y="486900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44160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0" y="333360"/>
            <a:ext cx="428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2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) </a:t>
            </a: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مقدار إنتفاخ التربة حول الوتد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43560" y="1557360"/>
                <a:ext cx="36576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9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72000" y="2565360"/>
                <a:ext cx="2997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7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584600" y="3532320"/>
                <a:ext cx="4186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  <m:sup>
                        <m:r>
                          <m:t xml:space="preserve">∘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  <m:sup>
                            <m:r>
                              <m:t xml:space="preserve">∘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W</m:t>
                            </m:r>
                          </m:sub>
                          <m:sup>
                            <m:r>
                              <m:t xml:space="preserve">∘</m:t>
                            </m:r>
                          </m:sup>
                        </m:sSubSup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∘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716360" y="5084640"/>
                <a:ext cx="2592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708360" y="6237360"/>
                <a:ext cx="5184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9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7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6080" y="620640"/>
            <a:ext cx="4381560" cy="5472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3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 u="sng">
                <a:solidFill>
                  <a:srgbClr val="000000"/>
                </a:solidFill>
                <a:uFillTx/>
                <a:latin typeface="Arial"/>
              </a:rPr>
              <a:t>الجزء الأول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يظهر تأثير التربة الإنتفاخ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Y" sz="2400" spc="-1" strike="noStrike" u="sng">
                <a:solidFill>
                  <a:srgbClr val="000000"/>
                </a:solidFill>
                <a:uFillTx/>
                <a:latin typeface="Arial"/>
              </a:rPr>
              <a:t>الجزء الثاني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لا يظهر تأثير للتربة الإنتفاخ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تنتج المعادلتين: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580000" y="404640"/>
                <a:ext cx="120348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0" y="35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57200" y="907920"/>
                <a:ext cx="47624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Z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Z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Z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651640" y="1700280"/>
                <a:ext cx="10206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25520" y="2205000"/>
                <a:ext cx="280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Z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Z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284720" y="3400560"/>
                <a:ext cx="9064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987640" y="3400560"/>
                <a:ext cx="100656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692360" y="3357720"/>
                <a:ext cx="10699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68360" y="3429000"/>
                <a:ext cx="9349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8200" y="4667400"/>
                <a:ext cx="81374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4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Z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4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Z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7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4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39640" y="5950080"/>
                <a:ext cx="50482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Z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Z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948360" y="5445000"/>
                <a:ext cx="10620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948360" y="6093000"/>
                <a:ext cx="10083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68360" y="5950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941440" y="5229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76040" y="1125360"/>
            <a:ext cx="219240" cy="181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77840" y="2421000"/>
            <a:ext cx="218880" cy="1810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176040" y="4797360"/>
            <a:ext cx="219240" cy="2476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176040" y="6134040"/>
            <a:ext cx="219240" cy="247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- تحديد الإجهادات الناظمية المؤثرة على الوت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 u="sng">
                <a:solidFill>
                  <a:srgbClr val="000000"/>
                </a:solidFill>
                <a:uFillTx/>
                <a:latin typeface="Arial"/>
              </a:rPr>
              <a:t>الجزء الأول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: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 u="sng">
                <a:solidFill>
                  <a:srgbClr val="000000"/>
                </a:solidFill>
                <a:uFillTx/>
                <a:latin typeface="Arial"/>
              </a:rPr>
              <a:t>الجزء الثاني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5435640" y="1212840"/>
                <a:ext cx="12970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0" y="35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971640" y="1700280"/>
                <a:ext cx="14414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sub>
                            </m:sSub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900000" y="2565360"/>
                <a:ext cx="65534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4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4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651640" y="3898800"/>
                <a:ext cx="11523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5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2920" y="4581360"/>
                <a:ext cx="1619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sub>
                            </m:sSub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2692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071720" y="5589720"/>
                <a:ext cx="6624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Z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Z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86360" cy="4734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940360" y="376200"/>
            <a:ext cx="2438640" cy="46483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4907520" y="5373720"/>
            <a:ext cx="4156920" cy="459720"/>
          </a:xfrm>
          <a:prstGeom prst="rect">
            <a:avLst/>
          </a:prstGeom>
          <a:noFill/>
          <a:ln w="9360">
            <a:solidFill>
              <a:srgbClr val="4ea5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التشوه الشاقولي للوت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4360" y="5373720"/>
            <a:ext cx="4489200" cy="459720"/>
          </a:xfrm>
          <a:prstGeom prst="rect">
            <a:avLst/>
          </a:prstGeom>
          <a:noFill/>
          <a:ln w="9360">
            <a:solidFill>
              <a:srgbClr val="4ea5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الإجهادات الناظمية في 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92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920"/>
                            </p:stCondLst>
                            <p:childTnLst>
                              <p:par>
                                <p:cTn id="309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920"/>
                            </p:stCondLst>
                            <p:childTnLst>
                              <p:par>
                                <p:cTn id="31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4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) </a:t>
            </a: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تحديد موضع النقطة المحايدة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بالتعويض في المعادل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بعد الإصلاح تنتج المعادل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   (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5</a:t>
            </a: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قوة رفع التربة المؤثرة على الوتد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468360" y="2133720"/>
                <a:ext cx="69134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4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z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4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0" y="2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292720" y="1197000"/>
                <a:ext cx="946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11280" y="2781360"/>
                <a:ext cx="194472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438120" y="4005360"/>
                <a:ext cx="835344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625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2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5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10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34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44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  <m:r>
                                      <m:t xml:space="preserve">×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44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  <m:r>
                                      <m:t xml:space="preserve">÷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5</m:t>
                                    </m:r>
                                  </m:sup>
                                </m:sSup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0" y="404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468360" y="6237360"/>
                <a:ext cx="15112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47040" cy="776160"/>
          </a:xfrm>
          <a:prstGeom prst="rect">
            <a:avLst/>
          </a:prstGeom>
          <a:solidFill>
            <a:srgbClr val="b1b8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838aa"/>
                </a:solidFill>
                <a:latin typeface="Arial"/>
                <a:ea typeface="Monotype Koufi"/>
              </a:rPr>
              <a:t>  الدراسة الحقلية والرياضية لتأثير التربة الإنتفاخية على الأوت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18108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b1b85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b1b850"/>
                </a:solidFill>
                <a:latin typeface="Arial"/>
              </a:rPr>
              <a:t>الدراسة الحقلية </a:t>
            </a: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E .A .Sorochan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)</a:t>
            </a:r>
            <a:r>
              <a:rPr b="1" lang="ar-SY" sz="2400" spc="-1" strike="noStrike">
                <a:solidFill>
                  <a:srgbClr val="b1b850"/>
                </a:solidFill>
                <a:latin typeface="Arial"/>
              </a:rPr>
              <a:t> : 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قام بمراقبة حقلية لوتد غير محمل طو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m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غرز في تر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إنتفاخية ثم رطبت التربة المحيطة بالوتد لكامل إرتفاع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وكانت النتائج ك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سطح التربة تشوه بمقدا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0m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وتد تشوه بمقدا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m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كما في الشكل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- وجد أنه عندما تنتفخ التربة المحيطة ب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تنتقل القوى إلى الوتد من خلال الإحتكا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بين التربة  والسطح الجانبي للوتد وبالت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يحصل إرتفاع بالوت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2736720" cy="272088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cc00"/>
                </a:solidFill>
                <a:latin typeface="Arial"/>
                <a:ea typeface="Monotype Kouf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d9225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1988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Chen, F.H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: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  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 تم استخدام تربة عالية الإنتفاخ مواصفاتها ك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حد السيو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, حد اللدون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, دليل اللدون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النسبة المارة من المنخ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تساو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2.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الرطوبة المثال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الوزن الحجمي الأعظم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.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\m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وضعت التربة  في حوض معدني بعم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c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رطوبتها البدائ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و تم حفر مجموعتان من الثقوب في التربة لإنشاء أوتاد بيتون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76160"/>
          </a:xfrm>
          <a:prstGeom prst="rect">
            <a:avLst/>
          </a:prstGeom>
          <a:solidFill>
            <a:srgbClr val="b1b8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838aa"/>
                </a:solidFill>
                <a:latin typeface="Arial"/>
                <a:cs typeface="Monotype Koufi"/>
              </a:rPr>
              <a:t>نموذج مخبري لدراسة الأوتاد في تربة إنتفاخ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80"/>
                            </p:stCondLst>
                            <p:childTnLst>
                              <p:par>
                                <p:cTn id="32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99cc00"/>
                </a:solidFill>
                <a:latin typeface="Arial"/>
              </a:rPr>
              <a:t>المجموعة الأولى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riction piles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النموذج يكون فيه تأثير ضغط الإنتفاخ فقط على جوانب الوتد دون قاعد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وهي بقط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c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و طو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c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أي تصل إلى قعر الحوض  وبالتالي لايوجد تماس بين التربة وقاعدة الوت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99cc00"/>
                </a:solidFill>
                <a:latin typeface="Arial"/>
              </a:rPr>
              <a:t>المجموعة الثانية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nd Bearing piles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النموذج يكون فيه تأثير ضغط الإنتفاخ فقط على قاعدة الوتد دون جوان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حفرت الثقوب بقط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c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بينما قطر الوتد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c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طول الأوتاد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c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( يوجد تماس بين قاعدة الوتد والتربة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- مقدار التشوه سجل بوضع مؤشر تشوه مباشرة على رأس وتد من كل مجموع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- ضغط الرفع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سجل بوضع حلقة قياس متمركزة فوق رأس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تد من كل مجموع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كما في الشكل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40"/>
                            </p:stCondLst>
                            <p:childTnLst>
                              <p:par>
                                <p:cTn id="33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pparatus for determination the uplift forces on p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905440" cy="42944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420"/>
                            </p:stCondLst>
                            <p:childTnLst>
                              <p:par>
                                <p:cTn id="3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4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تم ترطيب التربة بواسطة إدخال مجموعة من الأنابيب البلاستيكية المثقبة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حول الوتد وتم إضافة الماء من خلال الأنابيب المثقبة للحصول على حالة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الإشباع كما في الشك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4824360" cy="4165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400720" cy="31050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908000" y="3681360"/>
            <a:ext cx="5400720" cy="3176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818240" y="5616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توضح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نتائج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الشكلين التاليي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1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قيم العظمى المسجل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561440" cy="1355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46836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حسب (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1988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Chen, F.H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:  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قوة الرفع المؤثرة على الوتد بسبب إنتفاخ التربة 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نصف قطر الوتد ,         طول الوت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معامل الإحتكاك بين قوة الرفع للتربة والوت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ضغط الإنتفاخ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عمق منطقة التربة المتأثرة بالترطي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قوة الإعاقة الكلية (قوة الإرساء) تحسب ك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- من أجل وتد بقطر ثاب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الحمولة الميت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إحتكاك بين التربة والوتد في الجزء غير المرط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- من أجل وتد بقاعدة موسع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وزن التربة الكلي فوق القاعدة كما في الشكل التالي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قوة مقاومة القص على سطح الإنهيارالمفروض كما في الشكل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050920" y="1268280"/>
                <a:ext cx="1314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u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932360" y="1700280"/>
                <a:ext cx="255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0" y="1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380360" y="2205000"/>
                <a:ext cx="220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7451640" y="2637000"/>
                <a:ext cx="1875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80360" y="3068640"/>
                <a:ext cx="2523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979640" y="3860640"/>
                <a:ext cx="2305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451640" y="429264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7524720" y="4797360"/>
                <a:ext cx="230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241128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79640" y="5157720"/>
                <a:ext cx="1800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451640" y="566100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451640" y="6093000"/>
                <a:ext cx="314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82692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5928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7451640" y="1773360"/>
                <a:ext cx="2001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80"/>
                            </p:stCondLst>
                            <p:childTnLst>
                              <p:par>
                                <p:cTn id="37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Grade beam and p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431640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45ae3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قوى الرفع من أجل 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Friction p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45ae3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قوى الرفع من أجل  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End Bearing piles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تربة حول الوتد تنتفخ بالإتجاه الشاقولي والأفقي 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فرض ضغط الإنتفاخ الشاقولي مساوي للأفقي يكو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معامل الإحتكاك بين قوة الرفع للتربة والوت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619280" y="765000"/>
                <a:ext cx="2776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fu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×</m:t>
                        </m:r>
                        <m:r>
                          <m:t xml:space="preserve">u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835280" y="1557360"/>
                <a:ext cx="19224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547640" y="2997360"/>
                <a:ext cx="1899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5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619280" y="4044960"/>
                <a:ext cx="14400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649520" y="5877000"/>
                <a:ext cx="20286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5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820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bb2b27"/>
                </a:solidFill>
                <a:uFillTx/>
                <a:latin typeface="Arial"/>
                <a:cs typeface="Monotype Koufi"/>
              </a:rPr>
              <a:t>مثال</a:t>
            </a:r>
            <a:r>
              <a:rPr b="0" lang="ar-SA" sz="2400" spc="-1" strike="noStrike">
                <a:solidFill>
                  <a:srgbClr val="bb2b27"/>
                </a:solidFill>
                <a:latin typeface="Arial"/>
                <a:ea typeface="Monotype Koufi"/>
              </a:rPr>
              <a:t> 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تد بيتوني نصف قطره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20c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طوله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وضع في تربة إنتفاخية ضغ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حمولة الميتة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960 kp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حسب محصلة الحمولة في حالة حدوث الترطيب لكامل طول الوت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حسب محصلة الحمولة في حالة حدوث الترطيب لعم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.5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بفرض الإحتكاك بين التربة والوتد في الجزء غير المرط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24 k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bb2b27"/>
                </a:solidFill>
                <a:uFillTx/>
                <a:latin typeface="Arial"/>
                <a:cs typeface="Monotype Koufi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وة الرفع الكلية نحو الأعلى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الحمولة نحو الأسف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المحصلة نحوالأ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27200" y="4149720"/>
                <a:ext cx="4176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17928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96960" y="3573360"/>
                <a:ext cx="10936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fu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55640" y="5013360"/>
                <a:ext cx="35449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684360" y="6308640"/>
                <a:ext cx="2487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-360"/>
            <a:ext cx="8783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601"/>
              </a:spcBef>
              <a:buClr>
                <a:srgbClr val="c8b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جد أن إنتفاخ طبقات التربة غير متساوي  مع العمق إذ يحصل إنتفاخ أكبرف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الطبقات العلوية من التربة ثم يتناقص الإنتفاخ مع زيادة العمق لذلك فإن الطبق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العليا ستعمل على رفع الوتد بقيمة أعظمية بينما الطبقات السفلية تعمل على رف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الوتد بقيمة أصغ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601"/>
              </a:spcBef>
              <a:buClr>
                <a:srgbClr val="c8b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بالتالي قسم الوتد إلى منطقتين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1b850"/>
                </a:solidFill>
                <a:latin typeface="Arial"/>
              </a:rPr>
              <a:t> - المنطقة الفعالة </a:t>
            </a:r>
            <a:r>
              <a:rPr b="1" lang="en-US" sz="2400" spc="-1" strike="noStrike">
                <a:solidFill>
                  <a:srgbClr val="b1b850"/>
                </a:solidFill>
                <a:latin typeface="Arial"/>
              </a:rPr>
              <a:t>active zone</a:t>
            </a:r>
            <a:r>
              <a:rPr b="1" lang="en-US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b1b85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تتشوه التربة بمقدار أكبر من تشوه الوتد وبالتالي تؤثر التربة على الوتد بقوة رف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نحو الأعلى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1b850"/>
                </a:solidFill>
                <a:latin typeface="Arial"/>
              </a:rPr>
              <a:t> - منطقة الإعاقة أو الفرملة </a:t>
            </a:r>
            <a:r>
              <a:rPr b="1" lang="en-US" sz="2400" spc="-1" strike="noStrike">
                <a:solidFill>
                  <a:srgbClr val="b1b850"/>
                </a:solidFill>
                <a:latin typeface="Arial"/>
              </a:rPr>
              <a:t>anchor zone</a:t>
            </a:r>
            <a:r>
              <a:rPr b="1" lang="en-US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b1b85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تتشوه التربة بمقدار أقل من تشوه الوتد وبالتالي يوجد إحتكاك سلبي يمانع إرتفا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الوت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b1b85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b1b850"/>
                </a:solidFill>
                <a:latin typeface="Arial"/>
              </a:rPr>
              <a:t>النقطة المحايدة </a:t>
            </a:r>
            <a:r>
              <a:rPr b="1" lang="en-US" sz="2400" spc="-1" strike="noStrike">
                <a:solidFill>
                  <a:srgbClr val="b1b850"/>
                </a:solidFill>
                <a:latin typeface="Arial"/>
              </a:rPr>
              <a:t>Neutral point</a:t>
            </a:r>
            <a:r>
              <a:rPr b="1" lang="en-US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b1b850"/>
                </a:solidFill>
                <a:latin typeface="Arial"/>
              </a:rPr>
              <a:t>: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حد الفاصل بين المنطقت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ي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سابقت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ي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يكون فيها تشوه التربة مساوياً لتشوه الوت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قوة الرفع الكلية نحو الأعلى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الحمولة نحو الأسف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المحصلة نحو الأسف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08000" y="620640"/>
                <a:ext cx="1295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u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908000" y="1268280"/>
                <a:ext cx="4249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979640" y="3057480"/>
                <a:ext cx="2952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979640" y="3789360"/>
                <a:ext cx="4176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050920" y="5661000"/>
                <a:ext cx="255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bb2b27"/>
                </a:solidFill>
                <a:uFillTx/>
                <a:latin typeface="Arial"/>
                <a:cs typeface="Monotype Koufi"/>
              </a:rPr>
              <a:t>مثال</a:t>
            </a:r>
            <a:r>
              <a:rPr b="1" lang="ar-SA" sz="2400" spc="-1" strike="noStrike">
                <a:solidFill>
                  <a:srgbClr val="bb2b27"/>
                </a:solidFill>
                <a:latin typeface="Arial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bb2b27"/>
                </a:solidFill>
                <a:latin typeface="Arial"/>
                <a:ea typeface="Monotype Koufi"/>
              </a:rPr>
              <a:t>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759e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تد بقاعدة موسعة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طوله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قطر الجذ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= 0.8m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توضع في تربة إنتفاخية ضغط إنتفاخها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حمولة الخارجية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900 k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زاوية الإحتكاك بين التربة والوتد               عمق المنطقة الفعالة 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تماسك غير المصرف للتربة عند قاعدة 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عامل قدرة تحمل التربة              والمطلو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حسب قطر القاعدة الموسع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 u="sng">
                <a:solidFill>
                  <a:srgbClr val="bb2b27"/>
                </a:solidFill>
                <a:uFillTx/>
                <a:latin typeface="Arial"/>
                <a:cs typeface="Monotype Koufi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قوة الرفع المؤثرة على الوت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203640" y="1052640"/>
                <a:ext cx="1657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572000" y="1700280"/>
                <a:ext cx="936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627280" y="2068560"/>
                <a:ext cx="1728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580000" y="2492280"/>
                <a:ext cx="9018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5292720" y="2781360"/>
                <a:ext cx="415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510000" y="4869000"/>
                <a:ext cx="21495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D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3492360" y="5445000"/>
                <a:ext cx="3888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2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2521080" cy="316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من أجل حساب قطر القاعدة للوتد نأخ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من أجل التصميم نعتبر الحمولة الخارجي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عامل الأما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=1.25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ثم نج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تحقيق على عامل الأمان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4ea53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التحقي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843120" y="2708280"/>
                <a:ext cx="31669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900000" y="3716280"/>
                <a:ext cx="1224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914400" y="4724280"/>
                <a:ext cx="2374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928800" y="5541840"/>
                <a:ext cx="48243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871560" y="907920"/>
                <a:ext cx="2736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820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bb2b27"/>
                </a:solidFill>
                <a:uFillTx/>
                <a:latin typeface="Arial"/>
                <a:cs typeface="Monotype Koufi"/>
              </a:rPr>
              <a:t>مثال</a:t>
            </a:r>
            <a:r>
              <a:rPr b="0" lang="ar-SA" sz="2400" spc="-1" strike="noStrike">
                <a:solidFill>
                  <a:srgbClr val="bb2b27"/>
                </a:solidFill>
                <a:latin typeface="Arial"/>
                <a:ea typeface="Monotype Koufi"/>
              </a:rPr>
              <a:t> 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5ae34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45ae34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شيدت إحدى المدارس في ع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ستعمال أوتاد من البيتون المسل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قط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c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طو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خترق تربة إنتفاخية بسماك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وتستن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على تربة صخر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صممت الأوتاد من أجل قدرة تحمل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إحتكاك جانب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باعتبار الحمولة الميتة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ي عام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دأت تظهر التشققات وبدأ المتعهد بعمليات الإصلاح 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في ع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أجرى الباحث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n, F.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حريات اللازمة من أجل معر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أسباب التشققات حيث أجرى تجارب لمعرفة مقدار إنتفاخ الت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بين الشكل التالي نموذج لأحد تجارب الإنتفاخ المجراة على عينات مستخرجة 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بور في منطقة التأسيس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97800" cy="75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قوى الرف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وباعتبار ضغط الانتفاخ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قوى الإرساء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لمحصل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292720" y="692280"/>
                <a:ext cx="1295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u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292720" y="3789360"/>
                <a:ext cx="2736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00000" y="41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5219640" y="2205000"/>
                <a:ext cx="3673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18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292720" y="4292640"/>
                <a:ext cx="338292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7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1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8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219640" y="6093000"/>
                <a:ext cx="19321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292720" y="1557360"/>
                <a:ext cx="1150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18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076720" cy="4023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8893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4dc7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4dc78"/>
                </a:solidFill>
                <a:latin typeface="Arial"/>
              </a:rPr>
              <a:t> الشكل التالي يظهر تشقق</a:t>
            </a:r>
            <a:r>
              <a:rPr b="0" lang="ar-SA" sz="2400" spc="-1" strike="noStrike">
                <a:solidFill>
                  <a:srgbClr val="f4dc78"/>
                </a:solidFill>
                <a:latin typeface="Arial"/>
              </a:rPr>
              <a:t> في أحد الأوتاد بسبب قوى الش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5327640" cy="3811320"/>
          </a:xfrm>
          <a:prstGeom prst="rect">
            <a:avLst/>
          </a:prstGeom>
          <a:ln w="28440">
            <a:solidFill>
              <a:srgbClr val="f4dc78"/>
            </a:solidFill>
            <a:miter/>
          </a:ln>
        </p:spPr>
      </p:pic>
      <p:sp>
        <p:nvSpPr>
          <p:cNvPr id="642" name=""/>
          <p:cNvSpPr/>
          <p:nvPr/>
        </p:nvSpPr>
        <p:spPr>
          <a:xfrm>
            <a:off x="1908000" y="544392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c78"/>
                </a:solidFill>
                <a:latin typeface="Arial"/>
              </a:rPr>
              <a:t>Tension crack developed at approxim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c78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4dc78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4dc7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4dc78"/>
                </a:solidFill>
                <a:latin typeface="Arial"/>
              </a:rPr>
              <a:t>feet  below grade 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40"/>
                            </p:stCondLst>
                            <p:childTnLst>
                              <p:par>
                                <p:cTn id="3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2000" fill="hold"/>
                                        <p:tgtEl>
                                          <p:spTgt spid="6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34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34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6696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f4dc7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4dc78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f4dc78"/>
                </a:solidFill>
                <a:latin typeface="Arial"/>
              </a:rPr>
              <a:t>الشكل التالي يوضح إنهيار بسبب قوة الرفع الهائل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-25236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050160" cy="4919760"/>
          </a:xfrm>
          <a:prstGeom prst="rect">
            <a:avLst/>
          </a:prstGeom>
          <a:ln w="28440">
            <a:solidFill>
              <a:srgbClr val="f4dc78"/>
            </a:solidFill>
            <a:miter/>
          </a:ln>
        </p:spPr>
      </p:pic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8360" y="587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dc78"/>
                </a:solidFill>
                <a:latin typeface="Arial"/>
              </a:rPr>
              <a:t>Compression failure pedestal placed above pile and  beneath</a:t>
            </a:r>
            <a:r>
              <a:rPr b="1" lang="en-US" sz="1800" spc="-1" strike="noStrike">
                <a:solidFill>
                  <a:srgbClr val="f4dc7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dc78"/>
                </a:solidFill>
                <a:latin typeface="Arial"/>
              </a:rPr>
              <a:t>grade beam Uplifting pressure 30ps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450040" y="6326280"/>
                <a:ext cx="90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40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300"/>
                            </p:stCondLst>
                            <p:childTnLst>
                              <p:par>
                                <p:cTn id="4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0" dur="2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-39672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  <a:ea typeface="Monotype Kouf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تصميم الأوتاد على الترب الإنتفاخية يجب تحقيق الشرطين التالي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b1b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وفق قدرة تحمل الوت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جب أن يكون الوتد قادر على تحمل حمولة المبنى وقوى الرفع الناتجة عن تأثير التربة الإنتفاخ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b1b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وفق تحقيق شرط التشوهات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شوه الوتد بسبب قوى الرفع وحمولة المبنى يجب أن تكون أقل من الحد المسموح 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76520"/>
          </a:xfrm>
          <a:prstGeom prst="rect">
            <a:avLst/>
          </a:prstGeom>
          <a:solidFill>
            <a:srgbClr val="b1b8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3838aa"/>
                </a:solidFill>
                <a:latin typeface="Arial"/>
                <a:cs typeface="Monotype Koufi"/>
              </a:rPr>
              <a:t>تصميم الأوتاد المتوضعة في الترب الإنتفاخية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"/>
                            </p:stCondLst>
                            <p:childTnLst>
                              <p:par>
                                <p:cTn id="42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9" dur="500" fill="hold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300"/>
                            </p:stCondLst>
                            <p:childTnLst>
                              <p:par>
                                <p:cTn id="43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180"/>
                            </p:stCondLst>
                            <p:childTnLst>
                              <p:par>
                                <p:cTn id="434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680"/>
                            </p:stCondLst>
                            <p:childTnLst>
                              <p:par>
                                <p:cTn id="44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من أجل الفرضيات التالية  :   </a:t>
            </a:r>
            <a:r>
              <a:rPr b="0" lang="ar-SA" sz="2400" spc="-1" strike="noStrike">
                <a:solidFill>
                  <a:srgbClr val="759e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759e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759e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ضغط الإنتفاخ من أجل تربة عالية الإنتفاخ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480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توسطة الإنتفاخ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240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240 k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,     f =0.15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بمعرفة الحمولة الخارجية  وقطر الوتد ممكن حساب طول الوتد من المخطط 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6553440" cy="43657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0920" y="40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4ea53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تصميم ا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لأوتاد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 حسب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Nelson and Miller .1992) 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 ) :  [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مت دراسة الوتد وفق طريقت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- لايسمح بأي تشوه شاقولي للوتد          وسميت الطريقة الصلب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- يوجد قيمة مسموحة للتشوه الشاقولي للوتد وسميت الطريقة المرن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284720" y="2060640"/>
                <a:ext cx="7189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333360"/>
            <a:ext cx="4934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Forces acting on a p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4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256360" cy="51087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932360" y="5157720"/>
                <a:ext cx="9367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9280" y="3860640"/>
                <a:ext cx="936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76364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78936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0000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0000"/>
                </a:solidFill>
                <a:latin typeface="Arial"/>
              </a:rPr>
              <a:t>ZONE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5084640"/>
            <a:ext cx="132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9e00"/>
                </a:solidFill>
                <a:latin typeface="Arial"/>
              </a:rPr>
              <a:t>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9e00"/>
                </a:solidFill>
                <a:latin typeface="Arial"/>
              </a:rPr>
              <a:t>ZONE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6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36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36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36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360"/>
                            </p:stCondLst>
                            <p:childTnLst>
                              <p:par>
                                <p:cTn id="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60"/>
                            </p:stCondLst>
                            <p:childTnLst>
                              <p:par>
                                <p:cTn id="6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bb2b27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 u="sng">
                <a:solidFill>
                  <a:srgbClr val="bb2b27"/>
                </a:solidFill>
                <a:uFillTx/>
                <a:latin typeface="Arial"/>
              </a:rPr>
              <a:t>دراسة الوتد بالطريقة الصلبة</a:t>
            </a:r>
            <a:r>
              <a:rPr b="1" lang="en-US" sz="2400" spc="-1" strike="noStrike" u="sng">
                <a:solidFill>
                  <a:srgbClr val="bb2b27"/>
                </a:solidFill>
                <a:uFillTx/>
                <a:latin typeface="Arial"/>
              </a:rPr>
              <a:t>Rigid Design</a:t>
            </a:r>
            <a:r>
              <a:rPr b="0" lang="en-US" sz="2400" spc="-1" strike="noStrike">
                <a:solidFill>
                  <a:srgbClr val="bb2b27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bb2b27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لايسمح بأي تشوه شاقولي للوت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مبدأ التصميم أن الإحتكاك السلبي تحت منطقة الإنتفاخ يضاف إلى الحمولة الميتة ليقاوم قوى الرفع الناتجة عن إنتفاخ التر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- الطول اللازم من أجل وتد مستقيم ثابت القط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عمق منطقة الإنتفا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الإحتكاك السلبي في الجزء السفلي من الوت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ضغط الإنتفاخ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الحمولة الميت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قطر الوت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- قوة الشد العظمى المتولدة في الوتد تحدث في أسفل منطقة الإنتفاخ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88000" y="725400"/>
                <a:ext cx="6109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95520" y="2349360"/>
                <a:ext cx="30956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sub>
                          <m:sup>
                            <m:r>
                              <m:t xml:space="preserve">َ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π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8101080" y="3068640"/>
                <a:ext cx="358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8101080" y="3429000"/>
                <a:ext cx="285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0" y="26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8101080" y="3860640"/>
                <a:ext cx="345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8028000" y="4221000"/>
                <a:ext cx="377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8101080" y="4653000"/>
                <a:ext cx="228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547640" y="5516640"/>
                <a:ext cx="2160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π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692360" y="6021360"/>
                <a:ext cx="1046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384012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3924360" y="765000"/>
            <a:ext cx="1042920" cy="513432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716360" y="922320"/>
            <a:ext cx="2125800" cy="28796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1349280" cy="453708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4"/>
          <a:stretch/>
        </p:blipFill>
        <p:spPr>
          <a:xfrm>
            <a:off x="1951200" y="3198960"/>
            <a:ext cx="2255760" cy="27367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124000" y="189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2b27"/>
                </a:solidFill>
                <a:latin typeface="Arial"/>
              </a:rPr>
              <a:t>Forces acting on a rigid 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960"/>
                            </p:stCondLst>
                            <p:childTnLst>
                              <p:par>
                                <p:cTn id="4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96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bb2b27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 u="sng">
                <a:solidFill>
                  <a:srgbClr val="bb2b27"/>
                </a:solidFill>
                <a:uFillTx/>
                <a:latin typeface="Arial"/>
              </a:rPr>
              <a:t>دراسة الوتد بالطريقة المرنة </a:t>
            </a:r>
            <a:r>
              <a:rPr b="1" lang="en-US" sz="2400" spc="-1" strike="noStrike" u="sng">
                <a:solidFill>
                  <a:srgbClr val="bb2b27"/>
                </a:solidFill>
                <a:uFillTx/>
                <a:latin typeface="Arial"/>
              </a:rPr>
              <a:t>Elastic Design</a:t>
            </a:r>
            <a:r>
              <a:rPr b="0" lang="en-US" sz="2400" spc="-1" strike="noStrike" u="sng">
                <a:solidFill>
                  <a:srgbClr val="bb2b27"/>
                </a:solidFill>
                <a:uFillTx/>
                <a:latin typeface="Arial"/>
              </a:rPr>
              <a:t> </a:t>
            </a:r>
            <a:r>
              <a:rPr b="1" lang="ar-SY" sz="2400" spc="-1" strike="noStrike" u="sng">
                <a:solidFill>
                  <a:srgbClr val="bb2b27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       ممكن السماح للوتد بتشوه شاقو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         قوة الرفع المطبقة على كامل طول الوتد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                          ( من أجل الحال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                          (من أجل الحال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5867280" y="2679840"/>
                <a:ext cx="1413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</m:sub>
                    </m:sSub>
                    <m:r>
                      <m:t xml:space="preserve">Lπ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5867280" y="3068640"/>
                <a:ext cx="18003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</m:sub>
                    </m:sSub>
                    <m:r>
                      <m:t xml:space="preserve">Lπ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1341360"/>
                <a:ext cx="29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8" name=""/>
          <p:cNvSpPr/>
          <p:nvPr/>
        </p:nvSpPr>
        <p:spPr>
          <a:xfrm>
            <a:off x="395280" y="3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7999560" y="2133720"/>
                <a:ext cx="401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3059280" y="4078440"/>
            <a:ext cx="4105080" cy="1773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-  يمكن حساب الطول المطلوب ل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وكذلك مقدار القوة العظمى التي يتعرض لها الوت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من أجل وتد بقطر ثابت أوبقاعدة موسعة بالإستعانة بالمخططات التا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41672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ar-SY" sz="2400" spc="-1" strike="noStrike">
                <a:solidFill>
                  <a:srgbClr val="99cc00"/>
                </a:solidFill>
                <a:latin typeface="Arial"/>
              </a:rPr>
              <a:t>نتيجة</a:t>
            </a:r>
            <a:r>
              <a:rPr b="0" lang="ar-SY" sz="2400" spc="-1" strike="noStrike">
                <a:solidFill>
                  <a:srgbClr val="99cc00"/>
                </a:solidFill>
                <a:latin typeface="Arial"/>
              </a:rPr>
              <a:t>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يكون التصميم بالطريقة الصلبة جيد إذا كانت سماكة التربة الإنتفاخية صغي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أما إذا كانت كبيرة سيكون طول الوتد كبير( حوالي ضعفي عمق منطقة الإنتفاخ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من أجل الأبنية ذات الحمولة الخفيفة وعندها سيكون هذا الطول غير عملي و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المفضل التصميم بالطريقة المرن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820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إن تصميم الأساسات من أجل الإنتفاخ الأعظمي الممكن حصوله مناسب فقط من أجل الترب ضعيفة إلى متوسطة الإنتفا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أما من أجل الترب ذات القدرة العالية والعالية جداً للإنتفاخ يصبح التصميم من أج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الحالات الحدية غير عملي وغير إقتصاد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وكذلك عندما يكون إرتفاع منطقة الإنتفاخ كبير حيث يصبح الزمن اللازم حتى يصل الترطيب إلى هذه الأعماق كبير وأحياناً ممكن أن يتجاوز عمر المنشأة التصمي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لذلك يجب مراعاة نسبة الترطيب التي تحصل في الأعماق خلال الحياة التصميمية للمنشأة ومقدار الإنتفاخ الذي ينتج عن ذلك خلال العمرالتصميمي للمب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b1b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Nelson, et al, 2001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لاحظ أن بلاطة الأرضيات تبدأ بالتشو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مباشرة بعد الإنشاء بينما يتأخر تشو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الأوتاد لعدة سنوات كما في الشك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                                       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r>
              <a:rPr b="0" lang="ar-SY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468360" y="3228840"/>
            <a:ext cx="4211640" cy="3429000"/>
          </a:xfrm>
          <a:prstGeom prst="rect">
            <a:avLst/>
          </a:prstGeom>
          <a:ln w="28440">
            <a:solidFill>
              <a:srgbClr val="cfe8b0"/>
            </a:solidFill>
            <a:miter/>
          </a:ln>
        </p:spPr>
      </p:pic>
      <p:sp>
        <p:nvSpPr>
          <p:cNvPr id="707" name="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قترح العمر التصميمي الأصغري للأساس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سنة حسب  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D. (200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(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Overton, et al. 2006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أجرى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دراسة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ليبين كيفية تسرب الرطو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مع الزمن في مقطع من التربة مؤلف 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غضار ثم طبقة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ystone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وحصل على النتائج المبينة في الشكل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-  نلاحظ أنه خلا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سنة وصل الترطي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إلى عم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نلاحظ أنه خلا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سنة لا تصل التربة إلى حالة الإشب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وبالتالي فإن حساب الإنتفاخ بإفتراض أن كامل العمق يتم ترطيبه لحالة الإشباع يمكن تطبيقه في ظروف محددة جداً لأنه غيرعملي وغير إقتصادي  .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421080" cy="4608720"/>
          </a:xfrm>
          <a:prstGeom prst="rect">
            <a:avLst/>
          </a:prstGeom>
          <a:ln w="28440">
            <a:solidFill>
              <a:srgbClr val="cfe8b0"/>
            </a:solidFill>
            <a:miter/>
          </a:ln>
        </p:spPr>
      </p:pic>
    </p:spTree>
  </p:cSld>
  <p:transition spd="med">
    <p:split dir="out" orient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820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601"/>
              </a:spcBef>
              <a:buClr>
                <a:srgbClr val="b1b8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 u="sng">
                <a:solidFill>
                  <a:srgbClr val="b1b850"/>
                </a:solidFill>
                <a:uFillTx/>
                <a:latin typeface="Arial"/>
              </a:rPr>
              <a:t>الأوتاد ذات اللولب</a:t>
            </a:r>
            <a:r>
              <a:rPr b="0" lang="ar-SY" sz="2400" spc="-1" strike="noStrike" u="sng">
                <a:solidFill>
                  <a:srgbClr val="b1b85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b1b850"/>
                </a:solidFill>
                <a:uFillTx/>
                <a:latin typeface="Arial"/>
              </a:rPr>
              <a:t>Helical pier</a:t>
            </a:r>
            <a:r>
              <a:rPr b="0" lang="en-US" sz="2400" spc="-1" strike="noStrike" u="sng">
                <a:solidFill>
                  <a:srgbClr val="b1b850"/>
                </a:solidFill>
                <a:uFillTx/>
                <a:latin typeface="Arial"/>
              </a:rPr>
              <a:t>   </a:t>
            </a:r>
            <a:r>
              <a:rPr b="0" lang="ar-SY" sz="2400" spc="-1" strike="noStrike" u="sng">
                <a:solidFill>
                  <a:srgbClr val="b1b850"/>
                </a:solidFill>
                <a:uFillTx/>
                <a:latin typeface="Arial"/>
              </a:rPr>
              <a:t>: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  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تتألف من جذع معدني مقطعه دائري أو مرب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يوجد في أسفله صفيحة تشكل لولب كما في الشك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تستخدم بأقطار صغيرة مقارنة ًمع الركائز البيتون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وبالتالي يكون سطحها الجانبي المعرض للتربة أ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إضافة إلى أن سطح الفولاذ أقل إحتكاكاً مع التر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من البيتو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هذه العوامل تقلل من قوى الرفع التي تتعرض لها الركيزة بسبب إنتفاخ الترب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عند إنشائها في الموقع تنجز بتطبيق عزم يعطي إعاقة لقوى الرفع وتكون زيا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قيمة هذا العزم أكثر فعالية من زيادة الطول في الركائز البيتون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448000" cy="4248000"/>
          </a:xfrm>
          <a:prstGeom prst="rect">
            <a:avLst/>
          </a:prstGeom>
          <a:ln w="28440">
            <a:solidFill>
              <a:srgbClr val="cfe8b0"/>
            </a:solidFill>
            <a:miter/>
          </a:ln>
        </p:spPr>
      </p:pic>
    </p:spTree>
  </p:cSld>
  <p:transition spd="med">
    <p:split dir="out" orient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6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 u="sng">
                <a:solidFill>
                  <a:srgbClr val="bb2b27"/>
                </a:solidFill>
                <a:uFillTx/>
                <a:latin typeface="Arial"/>
                <a:cs typeface="Monotype Koufi"/>
              </a:rPr>
              <a:t>مثال </a:t>
            </a:r>
            <a:r>
              <a:rPr b="1" lang="ar-SY" sz="2400" spc="-1" strike="noStrike">
                <a:solidFill>
                  <a:srgbClr val="bb2b27"/>
                </a:solidFill>
                <a:latin typeface="Arial"/>
                <a:ea typeface="Monotype Koufi"/>
              </a:rPr>
              <a:t> </a:t>
            </a:r>
            <a:r>
              <a:rPr b="0" lang="ar-SY" sz="2400" spc="-1" strike="noStrike">
                <a:solidFill>
                  <a:srgbClr val="bb2b27"/>
                </a:solidFill>
                <a:latin typeface="Arial"/>
              </a:rPr>
              <a:t>: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قطع التربة مؤلف من طبقة غضار بسماك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تتوضع فوق طبقة م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st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الجدول يوضح بعض الخواص لكلا الطبقت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بفرض تم التأسيس على هذه التربة بواسط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أوتاد بقطر               من أجل حمو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إحسب مقدار تشوه سطح الترب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إحسب الطول المطلوب للوتد بدون أي تشوه مسموح ثم إحسب التسلي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)إحسب الطول المطلوب للوتد بتشوه مسموح                ثم إحسب التسلي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إحسب الطول المطلوب للوتد ذي قاعدة موسعة بتشوه مسموح             ثم إحسب التسلي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طول المطلوب من أج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al p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بتشوه مسموح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) قارن بين النتائج السابق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6732720" y="3357720"/>
                <a:ext cx="111276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4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0" y="35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-25236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4067280" y="3357720"/>
                <a:ext cx="1079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-25236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348000" y="4653000"/>
                <a:ext cx="10080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240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2268360" y="5950080"/>
                <a:ext cx="9367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692360" y="5084640"/>
                <a:ext cx="107928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32288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مقدار تشوه سطح التر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st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st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- نقسم      إل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طبقة وبالتالي سماكة كل طبقة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- مقدار إنتفاخ التربة في الحق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1187280" y="404640"/>
                <a:ext cx="21672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ΔZ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  <m:sup>
                                <m:r>
                                  <m:t xml:space="preserve">َ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o</m:t>
                                </m:r>
                              </m:sub>
                              <m:sup>
                                <m:r>
                                  <m:t xml:space="preserve">َ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116000" y="1773360"/>
                <a:ext cx="31640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3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116000" y="1341360"/>
                <a:ext cx="3083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3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1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187280" y="2421000"/>
                <a:ext cx="2802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rPr>
                        <m:lit/>
                        <m:nor/>
                      </m:rPr>
                      <m:t xml:space="preserve">/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1187280" y="2852640"/>
                <a:ext cx="273852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rPr>
                        <m:lit/>
                        <m:nor/>
                      </m:rPr>
                      <m:t xml:space="preserve">/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1187280" y="3284640"/>
                <a:ext cx="36752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187280" y="3716280"/>
                <a:ext cx="10796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308720" y="422100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87280" y="4724280"/>
                <a:ext cx="3149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1187280" y="5300640"/>
                <a:ext cx="3889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1258920" y="6021360"/>
                <a:ext cx="18716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  <m:e>
                        <m:r>
                          <m:t xml:space="preserve">ρ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3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b1b8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صل </a:t>
            </a: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E.A.Sorochan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لى النتيجة التالية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تحرض قوى شادة في الوتد بتأثير الإنتفاخ غير المتجانس لطبقات التربة ال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تعمل إلى رفعه في المنطقة الفعالة وإرسائه في منطقة الفرملة وبالتالي يج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وضع تسليح إضافي في الوتد لمقاومة الإجهادات الشادة التي تتولد بسبب إنتف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التربة المحيطة ب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طول المطلوب للوتد بدون أي تشوه مسموح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قوى الرفع الناتجة عن إنتفاخ التربة</a:t>
            </a: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st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وى الإحتكاك السلبي في منطقة الإرساء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قوة الشد العظم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إستخدام تسلي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إجهاد المسمو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6880" y="1125360"/>
                <a:ext cx="1224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π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596880" y="1773360"/>
                <a:ext cx="39592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63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582480" y="2205000"/>
                <a:ext cx="46087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1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1280" y="2637000"/>
                <a:ext cx="20160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477720" y="3193920"/>
                <a:ext cx="208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π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7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96880" y="3716280"/>
                <a:ext cx="453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39640" y="4292640"/>
                <a:ext cx="2737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3924360" y="4149720"/>
                <a:ext cx="1873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/>
                      <m:sub/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39640" y="4797360"/>
                <a:ext cx="2519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627280" y="5273640"/>
                <a:ext cx="1465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971640" y="5950080"/>
                <a:ext cx="3240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q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6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طول المطلوب للوتد بتشوه مسموح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ن المخطط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من المخطط التا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rade 60 ste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924360" y="333360"/>
                <a:ext cx="10792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824280" cy="345600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211640" y="1197000"/>
                <a:ext cx="2016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4284720" y="1557360"/>
                <a:ext cx="15112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8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4284720" y="1989000"/>
                <a:ext cx="2374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284720" y="2421000"/>
                <a:ext cx="1295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Lπ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3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4284720" y="2830680"/>
                <a:ext cx="4248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63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4284720" y="3301920"/>
                <a:ext cx="48592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1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4284720" y="3789360"/>
                <a:ext cx="2449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4019400" cy="273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4284720" y="4581360"/>
                <a:ext cx="28796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284720" y="5157720"/>
                <a:ext cx="251928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×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6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3995640" y="6116760"/>
                <a:ext cx="4176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q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7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وتد ذي قاعدة موسعة بتشوه مسمو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            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من المخطط المجاور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من المخطط المجاو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rade 60 ste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211640" y="333360"/>
                <a:ext cx="1224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4211640" y="907920"/>
                <a:ext cx="20160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2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924360" cy="26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4284720" y="1484280"/>
                <a:ext cx="14396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5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4284720" y="2133720"/>
                <a:ext cx="25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3995640" cy="27370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4297320" y="2708280"/>
                <a:ext cx="1365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4427640" y="3645000"/>
                <a:ext cx="2736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3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427640" y="4221000"/>
                <a:ext cx="2448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356000" y="5445000"/>
                <a:ext cx="3672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q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6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7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5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)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من أج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al pier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بتشوه مسموح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al pier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يتشوه بمقدار تشوه التربة على العم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بالحساب يتبين أ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قدار تشوه التربة 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m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يحدث على عم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بالتا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492360" y="476280"/>
                <a:ext cx="1150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1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3132000" y="1268280"/>
                <a:ext cx="484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3635280" y="2997360"/>
                <a:ext cx="1368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44800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6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)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المقارنة بين النتائج السابق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يبين الجدول التالي الأطوال المطلوبة من أجل التصميم للحالات الساب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( وهي تمثل الحالات الحدية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  نلاحظ أن استخدام أوتاد ثابتة القطر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بتشوه مسموح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ه تخفيض للطول حوالي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%</a:t>
            </a:r>
            <a:r>
              <a:rPr b="0" lang="ar-SY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بينما الأوتاد ذات القاعدة الموسعة فيها تخفيض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41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%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عن السابقة  أم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الأوتاد ذات اللولب الحلزوني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cal pier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) تعتبر التقنية الأكثر فعال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4824720" cy="286560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يبين الجدول التالي الطول المطلوب  من أجل العمر التصميم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سن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 نلاحظ أن إستخدام هذا الجدول فيه تخفيض للطول بحوالي   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38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%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إلى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65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عن التصميم من أجل الحالات الحدية السابق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 نلاحظ في الحالتي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ن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من الجدول أن إستبدا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بتربة غير قابلة للإنتفا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يلغي الحاجة إلى إستخدام الأوتاد من أجل التشوه المسموح  . 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040360" cy="389412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496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 u="sng">
                <a:solidFill>
                  <a:srgbClr val="99cc00"/>
                </a:solidFill>
                <a:uFillTx/>
                <a:latin typeface="Arial"/>
                <a:cs typeface="Monotype Koufi"/>
              </a:rPr>
              <a:t>مثال</a:t>
            </a:r>
            <a:r>
              <a:rPr b="1" lang="ar-SY" sz="2400" spc="-1" strike="noStrike">
                <a:solidFill>
                  <a:srgbClr val="99cc00"/>
                </a:solidFill>
                <a:latin typeface="Arial"/>
                <a:ea typeface="Monotype Koufi"/>
              </a:rPr>
              <a:t> </a:t>
            </a:r>
            <a:r>
              <a:rPr b="0" lang="ar-SY" sz="2400" spc="-1" strike="noStrike">
                <a:solidFill>
                  <a:srgbClr val="99cc00"/>
                </a:solidFill>
                <a:latin typeface="Arial"/>
                <a:ea typeface="Monotype Koufi"/>
              </a:rPr>
              <a:t> :</a:t>
            </a:r>
            <a:r>
              <a:rPr b="0" lang="ar-SA" sz="2400" spc="-1" strike="noStrike">
                <a:solidFill>
                  <a:srgbClr val="99cc00"/>
                </a:solidFill>
                <a:latin typeface="Arial"/>
                <a:ea typeface="Monotype Koufi"/>
              </a:rPr>
              <a:t>  [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  <a:ea typeface="Monotype Koufi"/>
              </a:rPr>
              <a:t>6</a:t>
            </a:r>
            <a:r>
              <a:rPr b="0" lang="ar-SA" sz="2400" spc="-1" strike="noStrike">
                <a:solidFill>
                  <a:srgbClr val="99cc00"/>
                </a:solidFill>
                <a:latin typeface="Arial"/>
                <a:ea typeface="Monotype Kouf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تد من البيتون المسلح غير محمل قطر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cm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طول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يتوضع في تربة إنتفاخ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= 96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m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الإحتكاك السلب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= 96 kpa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و المطلوب إيجاد عامل الأما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بفرض أن معامل الإحتكاك بين التربة والبيتون مماثل لمعام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الإحتكاك بين التربة والفولاذ  ولدين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تد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cal pirer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بمقطع مربع طول ضلع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h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81c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وعزم تركيبه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que = 5.5 kN.m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وجد عامل الأمان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تد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cal pir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بمقطع دائري نصف قطر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h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3 c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وعزم تركيبه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que = 5.5 kN.m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جد عامل الأما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362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bb2b27"/>
                </a:solidFill>
                <a:uFillTx/>
                <a:latin typeface="Arial"/>
                <a:cs typeface="Monotype Koufi"/>
              </a:rPr>
              <a:t>الحل</a:t>
            </a:r>
            <a:r>
              <a:rPr b="0" lang="en-US" sz="2400" spc="-1" strike="noStrike" u="sng">
                <a:solidFill>
                  <a:srgbClr val="bb2b27"/>
                </a:solidFill>
                <a:uFillTx/>
                <a:latin typeface="Arial"/>
                <a:ea typeface="Monotype Kouf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وى الرفع المؤثرة على الوتد بسبب إنتفاخ الترب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قوى المقاومة (قوى الإرساء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635280" y="1341360"/>
                <a:ext cx="12258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u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5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635280" y="3429000"/>
                <a:ext cx="2592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247920" cy="50403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635280" y="1916280"/>
                <a:ext cx="4248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635280" y="3933720"/>
                <a:ext cx="38181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635280" y="4653000"/>
                <a:ext cx="2449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9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3564000" y="5950080"/>
                <a:ext cx="2592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2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 )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al pirer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بمقطع مربع طول ضلع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in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قوى الرفع المؤثرة على الوتد بسبب إنتفاخ التربة 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fting forc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قوى المقاومة (قوى الإرساء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ing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ساحة المقطع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حمولة الخارج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العزم المطبق أثناء التنفي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عامل يؤخذ من الجدول التالي واحدته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8459640" y="5300640"/>
                <a:ext cx="3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556000" y="1989000"/>
                <a:ext cx="51847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00360" y="3500280"/>
                <a:ext cx="1440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1042920" y="4437000"/>
            <a:ext cx="2735280" cy="133200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4932360" y="3500280"/>
                <a:ext cx="9349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4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8532720" y="4797360"/>
                <a:ext cx="243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284720" y="5300640"/>
                <a:ext cx="5047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8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284720" y="1211400"/>
                <a:ext cx="3103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4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4284720" y="1989000"/>
                <a:ext cx="23590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23388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4284720" y="2852640"/>
                <a:ext cx="1512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8" name=""/>
          <p:cNvSpPr/>
          <p:nvPr/>
        </p:nvSpPr>
        <p:spPr>
          <a:xfrm>
            <a:off x="6084720" y="27403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  (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عامل الأما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b1b85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1b850"/>
                </a:solidFill>
                <a:latin typeface="Arial"/>
              </a:rPr>
              <a:t> الدراسة الرياضية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G.T. Hong; R.L. Lytton-2008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: 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2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9456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252360" y="62028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b1b850"/>
              </a:buClr>
              <a:buSzPct val="14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b1b850"/>
                </a:solidFill>
                <a:uFillTx/>
                <a:latin typeface="Arial"/>
              </a:rPr>
              <a:t>حساب تشوه التربة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تم حساب تشوه التربة بعلاقات رياضية تعتمد بشكل أساسي على مقدرة التر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على إمتصاص الماء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tion soil profil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قبل الترطيب وبعد الترط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والإجهادات المطبق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- حيث يتم تقسيم مقطع التربة إلى عدة طبقات ومن أجل كل طبقة تحسب مقد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التربة على الإمتصاص البدائية قبل الترطيب والنهائية بعد الترطيب إعتماداًعل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علاقات حسابية تتعلق بضغط ماء المسام في التربة وكمية الغاز وبخارا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الموجودين في التربة ودرجة الحرارة والجاذبية الأرضية وعوامل أخرى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al pi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بمقطع دائري نصف قطر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/8inch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وى الرفع المؤثرة على الوتد بسبب إنتفاخ الترب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قوى المقاومة (قوى الإرساء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348000" cy="468000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3708360" y="1649520"/>
                <a:ext cx="4319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3780000" y="2924280"/>
                <a:ext cx="30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4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3780000" y="3645000"/>
                <a:ext cx="2232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3780000" y="4365720"/>
                <a:ext cx="1309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8" name="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  <a:cs typeface="Arabic Transparent"/>
              </a:rPr>
              <a:t>نتيجة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الأوتاد ذات اللولب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l shaft helical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كثر فعالية 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الركائز البيتونية ويمكن استخدامها من أجل الترب العال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الإنتفاخ أما من أجل الترب متوسطة إلى منخفضة الإنتف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ممكن أن نستخدم الركائز البيتونية .  </a:t>
            </a:r>
            <a:r>
              <a:rPr b="0" lang="ar-SA" sz="2400" spc="-1" strike="noStrike">
                <a:solidFill>
                  <a:srgbClr val="99cc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99cc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5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4ea53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ea539"/>
                </a:solidFill>
                <a:latin typeface="Arial"/>
              </a:rPr>
              <a:t>قوة الشد الكلية في الوتد </a:t>
            </a: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حسب </a:t>
            </a:r>
            <a:r>
              <a:rPr b="1" lang="en-US" sz="2400" spc="-1" strike="noStrike">
                <a:solidFill>
                  <a:srgbClr val="4ea539"/>
                </a:solidFill>
                <a:latin typeface="Arial"/>
              </a:rPr>
              <a:t>Collins-1953</a:t>
            </a: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  :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 من أجل وتد غير محمل على العم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التماسك الفع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معامل للضغط الأفقي ممكن أن نعتبره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الإجهادات الشاقولية الفع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زاوية الإحتكاك بين التربة و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من أجل             :       طول الوتد يكو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 من أجل وتد محم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2700360" y="1341360"/>
                <a:ext cx="1297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πd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556000" y="2060640"/>
                <a:ext cx="30240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</m:e>
                    </m:nary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َ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َ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411280" y="5950080"/>
                <a:ext cx="3097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</m:e>
                    </m:nary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َ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َ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8" name="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340000" y="4941720"/>
                <a:ext cx="1857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πd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7093080" y="4581360"/>
                <a:ext cx="6681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6227640" y="4581360"/>
                <a:ext cx="268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4" name=""/>
          <p:cNvSpPr/>
          <p:nvPr/>
        </p:nvSpPr>
        <p:spPr>
          <a:xfrm>
            <a:off x="82692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8101080" y="2637000"/>
                <a:ext cx="3175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َ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8101080" y="314172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8101080" y="3500280"/>
                <a:ext cx="26496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َ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8172360" y="3933720"/>
                <a:ext cx="203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َ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43588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H.G.Poulos,E.H.Davis-1988)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)  [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تم تقسيم الوتد إل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جزء وحساب التشوه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لكل جزء وإعتماداً عل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ع مراعاة النقاط التا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التربة متجانسة ومرنة في نصف الفرا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عدم حدوث سطح إنزلاق بين التربة والوت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الوتد غير قابل للإنضغاط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تشوه التربة يتناقص بشكل خطي من القي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عند السطح  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عند العم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نتائج في المخططات المجاور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ن الشك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يمكن حساب قوة الشد العظم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تي يتعرض لها الوت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من الشك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يمكن حساب تشوه الوت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4226040" y="3371760"/>
                <a:ext cx="358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4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4181400" y="4686480"/>
                <a:ext cx="43992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802040" y="54309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9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694480" y="3860640"/>
                <a:ext cx="331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357360" cy="6165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b1b85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b1b850"/>
                </a:solidFill>
                <a:latin typeface="Arial"/>
              </a:rPr>
              <a:t>مقارنة نتائج العلاقات الحسابية مع نتائج حقلية مقاسة  :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- الدراسة الحقلية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Donaldson-</a:t>
            </a: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وتد بيتوني في موق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u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طول الوتد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.5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قطر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c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وضعت مؤشرات على أعماق مختلف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لقياس قوى الش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- من أجل ترطيب التربة حفر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ثقو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بقط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c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وعم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5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بعدها  ع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الوتد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وملئت با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- تم قياس قوى الشد في أوقات  مختلف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على مدى شهرين تقريباً  وفي أعما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مختلفة وكانت النتائج كما في  الشك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- نلاحظ أن قوى الشد تزداد مع الزمن بعد بدء الترطيب وكذلك مع زيادة الإنتف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وتبلغ قيمها العظمى عند عمق محدد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434880" y="765000"/>
            <a:ext cx="3708360" cy="482472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44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 ونفذت الحسابات النظرية لحساب قوى الشد من قب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H.G.Poulos,E.H.Davis-1988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) 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حسب المخططات السابقة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وكان التوافق بين النتائ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الحسابية والنتائج المقاسة مرضي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( كما في الشكل 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91132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-396720" y="692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 u="sng">
                <a:solidFill>
                  <a:srgbClr val="bb2b27"/>
                </a:solidFill>
                <a:uFillTx/>
                <a:latin typeface="Arial"/>
                <a:cs typeface="Monotype Koufi"/>
              </a:rPr>
              <a:t>مثال </a:t>
            </a:r>
            <a:r>
              <a:rPr b="0" lang="ar-SY" sz="2400" spc="-1" strike="noStrike">
                <a:solidFill>
                  <a:srgbClr val="bb2b27"/>
                </a:solidFill>
                <a:latin typeface="Arial"/>
                <a:ea typeface="Monotype Koufi"/>
              </a:rPr>
              <a:t>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  <a:ea typeface="Monotype Koufi"/>
              </a:rPr>
              <a:t>[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  <a:ea typeface="Monotype Koufi"/>
              </a:rPr>
              <a:t>5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  <a:ea typeface="Monotype Kouf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تد بيتوني غيرمحمل  قطره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30c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طوله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5 cm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وضع في تربة إنتفاخية ممكن أن تتعرض للترط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عمق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10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كون مقدار الإنتفاخ الاعظمي عند السط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تناقص بشكل خطي إلى القيمة صفر عند العم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اً أن:   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مطلو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وجد مقدار إرتفاع 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وجد قوة الشد العظمى التي يتعرض ل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2752560" y="2565360"/>
                <a:ext cx="10843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∘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3973680" y="3429000"/>
                <a:ext cx="1050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5846760" y="3429000"/>
                <a:ext cx="10494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788000" y="42210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226836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3132000" y="4653000"/>
                <a:ext cx="511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9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ن الشك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لدين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نتج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ن الشك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لدين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               ينتج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3780000" y="2060640"/>
                <a:ext cx="15127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inc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7667640" y="3429000"/>
                <a:ext cx="7920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5359320" y="793800"/>
                <a:ext cx="2100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6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3760920" y="630360"/>
                <a:ext cx="1431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3780000" y="1341360"/>
                <a:ext cx="1158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inc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2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596360" y="801720"/>
                <a:ext cx="863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5" name=""/>
          <p:cNvSpPr/>
          <p:nvPr/>
        </p:nvSpPr>
        <p:spPr>
          <a:xfrm>
            <a:off x="378000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510160" y="3429000"/>
                <a:ext cx="10731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-39672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3851280" y="3284640"/>
                <a:ext cx="1008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924360" y="4005360"/>
                <a:ext cx="10731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4900680" y="5448240"/>
                <a:ext cx="28702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1" name=""/>
          <p:cNvSpPr/>
          <p:nvPr/>
        </p:nvSpPr>
        <p:spPr>
          <a:xfrm>
            <a:off x="1835280" y="429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608360" y="6093000"/>
                <a:ext cx="17971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564000" cy="609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3908520" y="4653000"/>
                <a:ext cx="15634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πd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cc00"/>
              </a:solidFill>
              <a:latin typeface="Arial"/>
              <a:ea typeface="Monotype Kouf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362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b1b850"/>
                </a:solidFill>
                <a:latin typeface="Arial"/>
              </a:rPr>
              <a:t>تأثير طول الوتد وقطره :</a:t>
            </a:r>
            <a:r>
              <a:rPr b="0" lang="ar-SY" sz="2400" spc="-1" strike="noStrike">
                <a:solidFill>
                  <a:srgbClr val="c8b05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b1b850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1965</a:t>
            </a:r>
            <a:r>
              <a:rPr b="0" lang="ar-SY" sz="2000" spc="-1" strike="noStrike">
                <a:solidFill>
                  <a:srgbClr val="b1b85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Abalev,M.U</a:t>
            </a:r>
            <a:r>
              <a:rPr b="0" lang="ar-SA" sz="2000" spc="-1" strike="noStrike">
                <a:solidFill>
                  <a:srgbClr val="b1b85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قام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بدراسة حقلية 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أوتاد بأطوال مختلفة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نتائج كما في الشكل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نلاحظ أنه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قل تشوه الوتد كلما زاد طوله.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- 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H.G.Poulos,E.H.Davis-1988)</a:t>
            </a:r>
            <a:r>
              <a:rPr b="0" lang="ar-SA" sz="2000" spc="-1" strike="noStrike">
                <a:solidFill>
                  <a:srgbClr val="b1b85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- 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اعتماداً على نظرية المرون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astic The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استخد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أطوال للأوتاد بقطر ثابت وكذلك بقاع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موسعة تساوي ضعفي الجذع .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من أج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10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كانت النتائج المبينة في الشكل التا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279360" y="1266840"/>
            <a:ext cx="3203640" cy="301608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  <p:sp>
        <p:nvSpPr>
          <p:cNvPr id="998" name=""/>
          <p:cNvSpPr/>
          <p:nvPr/>
        </p:nvSpPr>
        <p:spPr>
          <a:xfrm>
            <a:off x="611280" y="189000"/>
            <a:ext cx="8229600" cy="776160"/>
          </a:xfrm>
          <a:prstGeom prst="rect">
            <a:avLst/>
          </a:prstGeom>
          <a:solidFill>
            <a:srgbClr val="b1b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838aa"/>
                </a:solidFill>
                <a:latin typeface="Arial"/>
                <a:cs typeface="Monotype Koufi"/>
              </a:rPr>
              <a:t>العوامل المؤثرة على سلوك الأوتاد المتوضعة في الترب الإنتفاخ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20"/>
                            </p:stCondLst>
                            <p:childTnLst>
                              <p:par>
                                <p:cTn id="67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5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92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420"/>
                            </p:stCondLst>
                            <p:childTnLst>
                              <p:par>
                                <p:cTn id="682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 نلاحظ أن تشوه الوتد يتناقص مع زيادة الط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وجود قاعدة موسعة تقلل من تشوه الوتد خاص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من أج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 5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10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) وهذا يتوافق 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وجود الوتد بكامله ضمن منطقة الإنتفاخ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أما عندما يتجاوز طول الوتد منطقة الانتف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يصبح وجود القاعدة الموسعة مهمل التأثي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القوة العظمى في الوتد تزداد بشكل قليل عندم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يزداد الطول ضمن منطقة الإنتفاخ وبشكل أ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عندما يتجاوز الطول منطقة الإنتفاخ   وكذل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تأثير القاعدة الموسعة يزيد من القوة   ض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منطقة الإنتفاخ ويتلاشى تأثيرها بعد   منطق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الإنتفاخ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05080" cy="424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959680" y="28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8244000" y="5589720"/>
                <a:ext cx="3506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8317080" y="5157720"/>
                <a:ext cx="296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365800" y="2851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110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0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حساب تشوه الوتد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يتم بتقسيمه إلى عدة أقسام بطول متساو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مساحة المقطع العرضي ل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امل المرونة ل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باستخدام النموذج المبين في الشك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يتم كتابة معادلات التوازن لكل ق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حساب التشوه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القوة الداخلية الناتجة في العنص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القوة الخارجية على العنص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588000" y="260280"/>
                <a:ext cx="249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42764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172360" y="1989000"/>
                <a:ext cx="2890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2509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172360" y="242100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9528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43640" y="3716280"/>
                <a:ext cx="432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b1b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من أجل قطر الوت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يقل تشوه الوتد كلما كان قطره أصغر بسبب نقصان مساحة السطح الجانيي للوت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المعرض للتربة لكن يوصى بعدم إستعمال قطر أقل من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John A.Wickham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.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b850"/>
                </a:solidFill>
                <a:latin typeface="Arial"/>
              </a:rPr>
              <a:t>Bhandari et al. (1987) -</a:t>
            </a:r>
            <a:r>
              <a:rPr b="0" lang="ar-SY" sz="2000" spc="-1" strike="noStrike">
                <a:solidFill>
                  <a:srgbClr val="b1b850"/>
                </a:solidFill>
                <a:latin typeface="Arial"/>
              </a:rPr>
              <a:t>: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  استخدم أوتاد ذات قطرثابت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c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5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  وأوتاد موسعة القاعدة بقطر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6cm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وسجلت قوى الرفع باستخدام خلا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brating wire load ce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وضعت في إرتفاعات مناسبة من الوت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  والتشوه الشاقولي للوتد سجل باستعما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level gau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  وتوصل إلى النتائج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 - وجد أن تشوه الأوتاد الموسعة أقل من ذات القطر الثاب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 - تشوه الوتد حوالي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من تشوه  سطح الت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  - التسليح اللازم حوال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من مساحة المقطع العرضي من أجل أكبر قوة شد.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1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686800" cy="66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2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- </a:t>
            </a:r>
            <a:r>
              <a:rPr b="1" lang="ar-SY" sz="2400" spc="-1" strike="noStrike">
                <a:solidFill>
                  <a:srgbClr val="b1b850"/>
                </a:solidFill>
                <a:latin typeface="Arial"/>
              </a:rPr>
              <a:t>تأثير الحمولة الخارجية :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ins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ام بمراقبة مجموعة من المنازل المؤسسة على أوت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ب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6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في تربة إنتفاخية في موق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vaal Leeuho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قسمت الأوتاد إلى مجموعت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- الأولى ذات حمولة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- الثانية ذات حمول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 النتائج كما في الشك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وجد أن الأوتاد ذات الحمول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أظهرت تشوه أ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وبالتالي يزداد تشوه الوتد مع الحمولات الخفيف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2790720" cy="202896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7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362800" cy="66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3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تأثير الترطيب للتربة المحيطة بالوتد :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a539"/>
                </a:solidFill>
                <a:latin typeface="Arial"/>
              </a:rPr>
              <a:t>E.A.Sorochan</a:t>
            </a:r>
            <a:r>
              <a:rPr b="0" lang="en-US" sz="2000" spc="-1" strike="noStrike">
                <a:solidFill>
                  <a:srgbClr val="4ea539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قام بالمراقبة الحقلية لوتدين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بنفس الطو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m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في تربة إنتفاخية الح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تم ترطيب التربة على محي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أوتاد لمد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أشهرولعم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m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وتمت مراق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القوى المماسية وحصل على النتائج التا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bb2b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bb2b27"/>
                </a:solidFill>
                <a:latin typeface="Arial"/>
              </a:rPr>
              <a:t>قبل الترطي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تزداد القوى المماسة مع العمق حتى تصل إ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قيمة عظمى ثم تتناقص حتى تصل إلى قي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صغرى عند قاعدة الوت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من الحمولة الكلي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bb2b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bb2b27"/>
                </a:solidFill>
                <a:latin typeface="Arial"/>
              </a:rPr>
              <a:t>بعد الترطي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ن أجل الحمولات الصغيرة يكون التأثير فقط 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جزء العلوي ومع زيادة الحمولات يمتد التأثير 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كامل طول الوت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1944360" cy="484668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2268360" y="706320"/>
            <a:ext cx="1362240" cy="4945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0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0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0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0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0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0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0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0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0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0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0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0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0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0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0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0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0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4ea53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تأثير عمق الترطيب</a:t>
            </a:r>
            <a:r>
              <a:rPr b="0" lang="ar-SY" sz="2400" spc="-1" strike="noStrike">
                <a:solidFill>
                  <a:srgbClr val="4ea539"/>
                </a:solidFill>
                <a:latin typeface="Arial"/>
              </a:rPr>
              <a:t>        :  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H.G.Poulos,E.H.Davis-1988</a:t>
            </a:r>
            <a:r>
              <a:rPr b="0" lang="en-US" sz="2400" spc="-1" strike="noStrike">
                <a:solidFill>
                  <a:srgbClr val="4ea539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4ea53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عتماداً عل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Theo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تج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خططات كما في الشك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نتائج كمايلي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نلاحظ أن تشوه الوتد يزداد كلما زاد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تأثيرالنسبة        على تشوه الأوتاد قليل نسبياً من أجل القطر الثابت ويكون تأثير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أكبر من  أجل الأوتاد ذات القاعدة الموسعة عندم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وبخاصة عند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795920" y="4797360"/>
                <a:ext cx="318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41240" y="5675400"/>
                <a:ext cx="878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03640" y="5713560"/>
                <a:ext cx="9381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948360" y="5229360"/>
                <a:ext cx="5320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611280" y="906480"/>
            <a:ext cx="3483000" cy="39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6084720" y="404640"/>
                <a:ext cx="320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4" dur="5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86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4ea53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4ea539"/>
                </a:solidFill>
                <a:latin typeface="Arial"/>
              </a:rPr>
              <a:t>تأثير حالة الترطيب حول الوتد ( متجانس أو غير متجانس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   (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G.T. Hong; R.L. Lytton-2008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:  [</a:t>
            </a:r>
            <a:r>
              <a:rPr b="0" lang="en-US" sz="2400" spc="-1" strike="noStrike">
                <a:solidFill>
                  <a:srgbClr val="b1b85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b1b85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في الترطيب المتجانس الضغوط الجانبية للتربة على الوتد متجانس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أما الترطيب غير المتجانس يؤدي إلى ضغوطات جانبية وإجهادات غير متجانسة 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جانبين ويؤدي هذا إلى حركات انعطاف وتشوهات جانبية درست هذه الحالة من أج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. الإختلاف في معامل إمتصاص التربة النهائي على جانبي الوت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final suction on the left and right sides of the p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المعطيات كالتا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1403280" y="5013360"/>
            <a:ext cx="6985080" cy="927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5" dur="500" fill="hold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360"/>
                            </p:stCondLst>
                            <p:childTnLst>
                              <p:par>
                                <p:cTn id="7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كانت النتائج الحسابية ك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040360" cy="3649680"/>
          </a:xfrm>
          <a:prstGeom prst="rect">
            <a:avLst/>
          </a:prstGeom>
          <a:ln w="28440">
            <a:solidFill>
              <a:srgbClr val="b1b850"/>
            </a:solidFill>
            <a:miter/>
          </a:ln>
        </p:spPr>
      </p:pic>
      <p:sp>
        <p:nvSpPr>
          <p:cNvPr id="1018" name=""/>
          <p:cNvSpPr/>
          <p:nvPr/>
        </p:nvSpPr>
        <p:spPr>
          <a:xfrm>
            <a:off x="2875680" y="249228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يبين الشكل التالي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تفاخ التربة على جانبي الوتد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2"/>
          <a:stretch/>
        </p:blipFill>
        <p:spPr>
          <a:xfrm>
            <a:off x="2700360" y="1197000"/>
            <a:ext cx="4467240" cy="885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52916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  <p:sp>
        <p:nvSpPr>
          <p:cNvPr id="1021" name=""/>
          <p:cNvSpPr/>
          <p:nvPr/>
        </p:nvSpPr>
        <p:spPr>
          <a:xfrm>
            <a:off x="2987640" y="69228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يبين الشكل التالي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هادات القص على جانبي الوت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916000" y="476280"/>
            <a:ext cx="6419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- يبين الشكل التالي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وى القص وعزم الإنعطاف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1332000" y="1308240"/>
            <a:ext cx="6408720" cy="445932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2</a:t>
            </a:r>
            <a:r>
              <a:rPr b="0" lang="ar-SY" sz="2400" spc="-1" strike="noStrike">
                <a:solidFill>
                  <a:srgbClr val="b1b850"/>
                </a:solidFill>
                <a:latin typeface="Arial"/>
              </a:rPr>
              <a:t> . الإختلاف في معامل إمتصاص التربة البدائي على جانبي الوت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initial suction on the left and right sides of the p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المعطيات ك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وكانت النتائج الحسابية كالتا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7056360" cy="9223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2556000" y="4797360"/>
            <a:ext cx="4467240" cy="914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0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0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2c4c"/>
            </a:gs>
            <a:gs pos="50000">
              <a:srgbClr val="2760a5"/>
            </a:gs>
            <a:gs pos="100000">
              <a:srgbClr val="112c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يبين الشكل التالي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تفاخ التربة والضغوط الجانبية على جانبي الوتد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6048720" cy="3654360"/>
          </a:xfrm>
          <a:prstGeom prst="rect">
            <a:avLst/>
          </a:prstGeom>
          <a:ln w="19080">
            <a:solidFill>
              <a:srgbClr val="b1b850"/>
            </a:solidFill>
            <a:miter/>
          </a:ln>
        </p:spPr>
      </p:pic>
    </p:spTree>
  </p:cSld>
  <p:transition spd="med">
    <p:split dir="out" orient="vert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3:49:57Z</dcterms:created>
  <dc:creator>hsnisa</dc:creator>
  <dc:description/>
  <dc:language>en-US</dc:language>
  <cp:lastModifiedBy>BM0012</cp:lastModifiedBy>
  <dcterms:modified xsi:type="dcterms:W3CDTF">2010-03-22T11:44:14Z</dcterms:modified>
  <cp:revision>176</cp:revision>
  <dc:subject/>
  <dc:title>المحتويات</dc:title>
</cp:coreProperties>
</file>