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EA5-35F7-44B4-A842-EB1D40A1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C2B-8F3E-469E-803B-F9C37811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0A7-E09D-4614-8F93-5BD263D2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243-ED6F-4471-86C6-369131DE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B7E-066E-4713-AC80-8642B9FD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B85-8E10-469C-A5F8-2F7D054E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210-9A8B-4B52-B2FA-99AB0152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FB3-A8B3-4658-94D3-BF73E26C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886-DAEF-46DB-89E6-9FDE4672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CC7-2E59-4906-A8B3-D70BC17C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EC1-9DBB-490B-B213-97F4BB3A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211-80F7-4862-8CD9-9EE23F4C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34A0-6C7A-41AB-881B-BEA02CCF1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17648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r" rtl="1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حذف صورة الحاسب من الشريحة الرئيسية ثم أغلق العرض الرئيسي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r" rtl="1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غير تخطيط الشريحة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بحيث تحتوي على عنوان وجدول فقط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r" rtl="1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طبق التصمي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ss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على الشريحة التي عنوانها ”نشاط عملي“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r" rtl="1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أدرج شريحة جديدة بعد الشريحة التي عنوانها الشريحة الرابعة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r" rtl="1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فتح قائمة ابدأ, ثم قم بطباعة الشاشة الحالية وألصقها في الشريحة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r" rtl="1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غير سعر الحليب في الجدول التابع للتخطيط في الشريحة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من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إل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r" rtl="1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غير الحركة المخصصه للنص جامعة الباحة في الشريح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لى عائم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r" rtl="1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ستخدم التعليمات للبحث عن ”التوقيت“, اختر التبويب ”تكرار حركة“  وانسخ التعداد الأول الذي يبدأ بـ “ إذا لم يكن...“ في مربع نص الشريحة رقم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r" rtl="1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غير طريقة العرض إلى فارز الشرائح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r" rtl="1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كتب اسمك بالكامل في ملاحظات المستخدم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r" rtl="1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طبق المرحلة الانتقالية تمشيط عمودي على كل الشرائ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حفظ الملف باسمك بنو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Point show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وأرسله إلى البريد الإلكتروني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ham222@yahoo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000000"/>
                </a:solidFill>
                <a:latin typeface="Times New Roman"/>
              </a:rPr>
              <a:t>جامعة الباح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شريح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نشاط عمل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00000" y="546120"/>
          <a:ext cx="7616880" cy="45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46120"/>
                    <a:ext cx="76168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9-01-06T05:50:31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