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AE8-2716-4209-8841-4081E66B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08664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ED6-C40A-4229-A02C-9AD412B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AC0-B1B1-4A2F-B3D5-A8767A57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9F1-D47F-45D6-BE66-09665B28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81BF-B4B7-4DEA-8E5C-BABC2F89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97632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A29C-8C15-4E26-B121-131123F9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670C-7DAF-4419-811A-6601A03C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9875-FA33-4F0D-B850-CADF7D9E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98B3-F7F2-4A69-8D30-3803CCB7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160" y="12600"/>
            <a:ext cx="83818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D62B-28B4-4333-94F6-0B9433FD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ECF2-5FB8-46C2-8250-89CD8492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97632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284-D137-4C43-BD15-8E1FC55A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832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5CFF-3319-4D7A-A04C-32E919F8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2FC6-2081-4706-8D22-70C3572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08664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76E6-8391-4150-8BAC-6719BB4C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832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047F-1ECE-4054-B6CF-34FFC535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708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100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708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100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2DEE-C954-4CCD-9251-866DF726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37A-F55D-4212-8F06-461151D4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29E-AAA0-4210-A4C8-EC5F6D2B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AF6-3408-4159-AB65-5F29FD9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12600"/>
            <a:ext cx="83818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E48-0BA5-4431-B5F7-3B5C918F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17F-F2FE-4FA1-A325-814AC4A8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8A3-1CE3-4418-925D-BDBA88EE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E59-AC57-4CAA-8FC3-7F66403F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97632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1" marL="891000" indent="-39240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299600" indent="-40680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3" marL="1994400" indent="-4647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4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5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6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095D-9795-4048-A010-1B679D3C1B54}" type="slidenum">
              <a:rPr b="0" lang="ar-EG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9120" y="403200"/>
            <a:ext cx="867096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51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6225-4E20-4B2A-9B7E-45B00E30EDFD}" type="slidenum">
              <a:rPr b="0" lang="ar-EG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1" marL="457200" indent="0"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901800" algn="ctr">
              <a:lnSpc>
                <a:spcPct val="80000"/>
              </a:lnSpc>
              <a:spcBef>
                <a:spcPts val="1400"/>
              </a:spcBef>
              <a:buClr>
                <a:srgbClr val="ccffff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3" marL="1371600" indent="173160" algn="ctr">
              <a:lnSpc>
                <a:spcPct val="80000"/>
              </a:lnSpc>
              <a:spcBef>
                <a:spcPts val="1400"/>
              </a:spcBef>
              <a:buClr>
                <a:srgbClr val="ccff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4" marL="1828800" indent="299880" algn="ctr">
              <a:lnSpc>
                <a:spcPct val="80000"/>
              </a:lnSpc>
              <a:spcBef>
                <a:spcPts val="1400"/>
              </a:spcBef>
              <a:buClr>
                <a:srgbClr val="ccffff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5" marL="1828800" indent="29988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6" marL="1828800" indent="29988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upernova.sourceforge.net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685440"/>
            <a:ext cx="86709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pernova Programming Languag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ersion  1.2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2360" y="5943240"/>
            <a:ext cx="86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2009-2010, Mahmoud Fayed (msfclipper@yahoo.com)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nguage Design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75960"/>
            <a:ext cx="8610480" cy="628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-501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With respect to the design of the languag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And unlike other programming language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Which uses Context-Free Grammar,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Supernova  use a Context-Sensitive Grammar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To get a language more near to our human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Language as much as we can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nguage Design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8534520" cy="552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– Loop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2036880"/>
            <a:ext cx="4191120" cy="3601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8320" y="2106720"/>
            <a:ext cx="419076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utdown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95280" y="1523880"/>
            <a:ext cx="64008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er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7772400" cy="458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62120" y="1465200"/>
            <a:ext cx="7238880" cy="516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38080" y="1600200"/>
            <a:ext cx="7162920" cy="51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er-Range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ynamic Objects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eck Answer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7391520" cy="502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note Roadmap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975960"/>
            <a:ext cx="8381880" cy="58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ntroduction to Supernova P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ello World Program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pernova and Human Language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nstructions and Rule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ulti-Language Source cod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Language Design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ample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sing Notepad++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pernova developed using PWC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pernova Resources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-Statements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-Time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3880" y="1905120"/>
            <a:ext cx="5943600" cy="451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lash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85800" y="1681200"/>
            <a:ext cx="7620120" cy="504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elivery Application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19320" y="1752480"/>
            <a:ext cx="6705360" cy="487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elivery Application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391520" cy="502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ound-Recorder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43000" y="1828800"/>
            <a:ext cx="6019920" cy="479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ovie-Player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7772400" cy="444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M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77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7391520" cy="495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DODB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295280" y="1523880"/>
            <a:ext cx="6172200" cy="514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Notepad++ 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77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38080" y="1066680"/>
            <a:ext cx="7772400" cy="553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975960"/>
            <a:ext cx="8381880" cy="622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e Supernova programming language is a modern scripting language and the first one presents the concept of programming with direct Fiction Description using clear subset of pure Human Language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e programs are one or more of paragraphs (collection of statements)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igh level of writing flexibility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ulti-Language source code (Arabic, English &amp; Mixed)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nstructions execution model is Event-Driven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ybrid Implementation (Compiler &amp; Virtual Machine)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2240"/>
            <a:ext cx="8915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ernova developed using PWCT 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774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001000" cy="5779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pernova Resource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975960"/>
            <a:ext cx="8381880" cy="509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pernova web site on sourceforge.ne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1" marL="9000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ccff"/>
                </a:solidFill>
                <a:uFillTx/>
                <a:latin typeface="Franklin Gothic Medium"/>
                <a:hlinkClick r:id="rId2"/>
              </a:rPr>
              <a:t>http://supernova.sourceforge.net</a:t>
            </a:r>
            <a:endParaRPr b="0" lang="en-US" sz="4000" spc="-1" strike="noStrike">
              <a:solidFill>
                <a:srgbClr val="ffff00"/>
              </a:solidFill>
              <a:latin typeface="Franklin Gothic Medium"/>
            </a:endParaRPr>
          </a:p>
          <a:p>
            <a:pPr lvl="1" marL="9000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312920" indent="-41112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News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312920" indent="-41112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Download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312920" indent="-41112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Documentation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3129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3129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580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reewar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rogramming With Fiction Description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riting Flexibility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mall Size (Less than 15 MByte)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ulti-Language Source code (Arabic &amp; English)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uild GUI Application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stribute Executable Applications (*.EXE)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Extension (calling DLL Functions &amp; using COM )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eveloped using PWC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lo World Pro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76320"/>
            <a:ext cx="8610480" cy="77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1480" indent="-501480">
              <a:lnSpc>
                <a:spcPct val="80000"/>
              </a:lnSpc>
              <a:spcBef>
                <a:spcPts val="14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I want window and the window title is Hello World.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52480" y="205740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ernova and Human Languages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45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pernova is a language tends to be more near to our human language where we do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Programming With Fiction Description (PWFD)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using subset of Pure human languag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e human language is VERY big and contains many words so we use  a subset of it to **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Reduce the Complexity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** of the problem and to **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Get Acceptable Performance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** as much as we can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ernova and Human Languages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656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1480" indent="-501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nlike other programming languages which is based on statements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Supernova is based on Paragraphs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which contains many statements packed together using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ignored words like (the, and,...etc)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-501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For example the two commands:-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(1) I want window  (2) Window title is hello.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May be connected together to form another big statemen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I want window and the window title is hello.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structions and Rule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Language statements has a rule describe its structure and help users to use and remember the statement in the future.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Rule: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PVC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[P] =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Pronoun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  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[V] =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Verb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[C] =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Clas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  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Statement =   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I Want Window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structions and Rule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975960"/>
            <a:ext cx="8381880" cy="47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le: CAVD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[C] = Clas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[A] = Attribut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[V] = Verb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[D] = Data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tatement = Window Title is hello world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ulti-Language Source Co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975960"/>
            <a:ext cx="8610480" cy="559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Supernova is a Multi-language where the source code may be written Using (Arabic, English, Mixed...etc) cod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For example The English program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I want window and the window title is wow.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Can be rewritten in Arabic language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  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.</a:t>
            </a:r>
            <a:r>
              <a:rPr b="1" lang="ar-SA" sz="3200" spc="-1" strike="noStrike">
                <a:solidFill>
                  <a:srgbClr val="ffff00"/>
                </a:solidFill>
                <a:latin typeface="Franklin Gothic Medium"/>
              </a:rPr>
              <a:t>انا اريد نافذة والنافذة تحت عنوان هو واو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3:57:31Z</dcterms:created>
  <dc:creator/>
  <dc:description/>
  <dc:language>en-US</dc:language>
  <cp:lastModifiedBy>Mahmoud</cp:lastModifiedBy>
  <dcterms:modified xsi:type="dcterms:W3CDTF">2010-04-13T03:47:15Z</dcterms:modified>
  <cp:revision>406</cp:revision>
  <dc:subject/>
  <dc:title>Microsoft®  Visual FoxPro® Roadmap               Se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